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A3E-07A1-4D13-9DCF-3C324404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823-8E87-4EA7-AB72-414C0942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5DAE-2B2C-48BE-A8DC-E87AE27B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44C-C9BC-4013-BAD6-407018C3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604-CA1F-4F6C-B668-91ADE6EC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547-DABE-48DF-9C59-1E18EF81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33C-B739-4220-BB3C-DDECE039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8DD-1D0F-49CF-AD76-4082CD8D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FF1-0756-4D17-9633-B7AF685D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687-5AB4-4DC3-800B-1D3E4D19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481B-EB08-4D83-836D-BCB0CE9A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3B5-75D0-4169-8B78-44B1AA42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Benguiat Bk BT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18112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Modelado y simulación en Ingeniería Química.  Manuel Rodrígu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-3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706D-146C-4181-8C41-79DF0985061D}" type="slidenum">
              <a:rPr b="1" lang="es-E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logosultimo2" descr=""/>
          <p:cNvPicPr/>
          <p:nvPr/>
        </p:nvPicPr>
        <p:blipFill>
          <a:blip r:embed="rId9"/>
          <a:stretch/>
        </p:blipFill>
        <p:spPr>
          <a:xfrm>
            <a:off x="0" y="646128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686800" y="0"/>
            <a:ext cx="457200" cy="4572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067680" y="2362320"/>
            <a:ext cx="76320" cy="29718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2362320"/>
            <a:ext cx="76320" cy="29718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391160" cy="545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00"/>
                </a:solidFill>
                <a:latin typeface="Benguiat Bk BT"/>
              </a:rPr>
              <a:t>4. Introducción a Aspen Plus</a:t>
            </a: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538-1C0C-4109-851E-0E105D6595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5640" y="0"/>
            <a:ext cx="33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SELECCIÓN DE MODELOS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7467480" cy="5502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2520" y="2057400"/>
            <a:ext cx="1730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oble click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on el data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e accede al men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 especificación 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quip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990720" y="2971440"/>
            <a:ext cx="3047760" cy="1522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777-2F6B-4464-9F92-32B09BF319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472520" cy="5505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SELECCIÓN DE MODELOS y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19F-C7E1-4D57-9CA9-676A595CD6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7781760" cy="5734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1314360" cy="1314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DEFINIENDO CORR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080" y="358128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Tipos de corr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886200"/>
            <a:ext cx="304920" cy="4572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56080" y="4114800"/>
            <a:ext cx="50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ntradas y salidas de los equipos donde conectar las corr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En azul decantado de agua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en rojo corrientes princip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Se arrastra la corriente hasta un terminal y se da un clic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809520" y="3962160"/>
            <a:ext cx="685800" cy="2286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495680" y="3581280"/>
            <a:ext cx="457200" cy="60984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390-EB32-4B33-8ADF-AE58489BB2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665280"/>
            <a:ext cx="7705440" cy="567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DEFINIENDO CORRIENTES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2560" y="2362320"/>
            <a:ext cx="256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e numeran automátic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1320" y="4648320"/>
            <a:ext cx="352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Botón derecho del ratón, menú de op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2666880"/>
            <a:ext cx="0" cy="9144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324480" y="4571640"/>
            <a:ext cx="609840" cy="1522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DCA2-7EE9-4A1C-ABC8-B690F5634D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DEFINIENDO CORRIENTES y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62240" y="685800"/>
            <a:ext cx="7781760" cy="5734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1800" y="2438280"/>
            <a:ext cx="1680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oble click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on el data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e accede al men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 especificació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a corr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3124080"/>
            <a:ext cx="167652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FB8-6682-4B93-9FDA-A1DC4DFB80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682040" cy="5942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EJECUCIÓN DE LA SIMULACIÓN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6248520"/>
            <a:ext cx="1371600" cy="457200"/>
          </a:xfrm>
          <a:prstGeom prst="ellipse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1295280"/>
            <a:ext cx="457200" cy="152640"/>
          </a:xfrm>
          <a:prstGeom prst="ellipse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724280"/>
            <a:ext cx="233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Todos los datos necesarios se han comple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43800" y="5257800"/>
            <a:ext cx="380880" cy="99072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39040" y="2514600"/>
            <a:ext cx="20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e ejecuta la sim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28800" y="1447560"/>
            <a:ext cx="914400" cy="1143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A23-ADEE-4E47-8BDA-6F25802D38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8001000" cy="5819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EJECUCIÓN DE LA SIMULACIÓN y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055-A08C-4C51-B864-020C7F9F2A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90440" y="609480"/>
            <a:ext cx="8953560" cy="5521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077320" y="5715000"/>
            <a:ext cx="914400" cy="533520"/>
          </a:xfrm>
          <a:prstGeom prst="ellipse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743200"/>
            <a:ext cx="1676520" cy="2133720"/>
          </a:xfrm>
          <a:prstGeom prst="ellipse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27120" y="6248520"/>
            <a:ext cx="538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Resultados pueden ser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azul=OK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amarillo=Warnings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rojo=err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648320" y="6172200"/>
            <a:ext cx="3504960" cy="7632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05520" y="2743200"/>
            <a:ext cx="1904760" cy="3808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RESULTADOS DE LA SIMULACIÓN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313-F262-44FC-BCD9-CBD0BE0FD0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404640"/>
            <a:ext cx="8124840" cy="5797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RESULTADOS DE LA SIMULACIÓN y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D2C-C65C-41F5-8A16-F9D41B1FBC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10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3120" y="6172200"/>
            <a:ext cx="23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stado del diagrama de flu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(DO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640" y="3429000"/>
            <a:ext cx="84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Zon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5800" y="6019920"/>
            <a:ext cx="172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ibrería de mode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7000" y="594360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Tipos de corr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52080" y="23976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Menú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505320" y="5257800"/>
            <a:ext cx="914400" cy="8380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10280" y="5866920"/>
            <a:ext cx="228600" cy="3812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838080" y="3657600"/>
            <a:ext cx="1524240" cy="7632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533520"/>
            <a:ext cx="1676520" cy="6858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20" y="0"/>
            <a:ext cx="29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VENTANAS PRINCIP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295280" y="5486400"/>
            <a:ext cx="152640" cy="53352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86A-5A04-4DFF-87B7-36C6611EF6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341280"/>
            <a:ext cx="8001000" cy="5951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57600" y="762120"/>
            <a:ext cx="228600" cy="228600"/>
          </a:xfrm>
          <a:prstGeom prst="ellipse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752480" y="838080"/>
            <a:ext cx="1905120" cy="60984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920" y="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DATA BROWSER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465-6604-41A0-A607-4245C672B8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159000" cy="365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57520" y="1143000"/>
            <a:ext cx="48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50021"/>
                </a:solidFill>
                <a:latin typeface="Times New Roman"/>
              </a:rPr>
              <a:t>Especificaciones generales y selección de sistema de unida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58600" y="1447920"/>
            <a:ext cx="39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50021"/>
                </a:solidFill>
                <a:latin typeface="Times New Roman"/>
              </a:rPr>
              <a:t>Especificación de los componentes que particip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56800" y="1752480"/>
            <a:ext cx="456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50021"/>
                </a:solidFill>
                <a:latin typeface="Times New Roman"/>
              </a:rPr>
              <a:t>Selección de los métodos y modelos de propiedades fís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39880" y="2057400"/>
            <a:ext cx="65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50021"/>
                </a:solidFill>
                <a:latin typeface="Times New Roman"/>
              </a:rPr>
              <a:t>Definición de las corrientes de proceso (normalmente se hace en la zona de trabaj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55360" y="2362320"/>
            <a:ext cx="58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50021"/>
                </a:solidFill>
                <a:latin typeface="Times New Roman"/>
              </a:rPr>
              <a:t>Definición de los bloques de proceso (se puede hacer en la zona de trabaj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0400" y="2666880"/>
            <a:ext cx="388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50021"/>
                </a:solidFill>
                <a:latin typeface="Times New Roman"/>
              </a:rPr>
              <a:t>Definición de las reacciones, si hay en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57520" y="2971800"/>
            <a:ext cx="51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50021"/>
                </a:solidFill>
                <a:latin typeface="Times New Roman"/>
              </a:rPr>
              <a:t>Selección de opciones de convergencia en los métodos numéric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66640" y="3276720"/>
            <a:ext cx="459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50021"/>
                </a:solidFill>
                <a:latin typeface="Times New Roman"/>
              </a:rPr>
              <a:t>Opciones de la hoja de flujo (diseño de especificaciones,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3360" y="3505320"/>
            <a:ext cx="603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50021"/>
                </a:solidFill>
                <a:latin typeface="Times New Roman"/>
              </a:rPr>
              <a:t>Herramientas de análisis: sensibilidad, optimización, ajuste de parámetros,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3800" y="3809880"/>
            <a:ext cx="24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50021"/>
                </a:solidFill>
                <a:latin typeface="Times New Roman"/>
              </a:rPr>
              <a:t>Modo orientado a ecu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84680" y="4114800"/>
            <a:ext cx="60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50021"/>
                </a:solidFill>
                <a:latin typeface="Times New Roman"/>
              </a:rPr>
              <a:t>Resumen de resultados: convergencia, corrientes, balances de masa/energía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4120" y="5334120"/>
            <a:ext cx="3987720" cy="855720"/>
          </a:xfrm>
          <a:prstGeom prst="rect">
            <a:avLst/>
          </a:prstGeom>
          <a:solidFill>
            <a:srgbClr val="e1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00ff"/>
                </a:solidFill>
                <a:latin typeface="CommonBullets"/>
                <a:ea typeface="CommonBullets"/>
              </a:rPr>
              <a:t>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indica que ese apartado está comple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l         indica que ese apartado NO está comple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214440" y="5943600"/>
            <a:ext cx="76320" cy="152280"/>
            <a:chOff x="3214440" y="5943600"/>
            <a:chExt cx="76320" cy="152280"/>
          </a:xfrm>
        </p:grpSpPr>
        <p:sp>
          <p:nvSpPr>
            <p:cNvPr id="78" name=""/>
            <p:cNvSpPr/>
            <p:nvPr/>
          </p:nvSpPr>
          <p:spPr>
            <a:xfrm>
              <a:off x="3214800" y="5943600"/>
              <a:ext cx="75960" cy="1303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5398800">
              <a:off x="3208680" y="6014160"/>
              <a:ext cx="87120" cy="75960"/>
            </a:xfrm>
            <a:prstGeom prst="flowChartDelay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3720" y="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DATA BROWSER y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6AD-6B09-4A75-9EB4-5DE46DF087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09560" y="452520"/>
            <a:ext cx="7215120" cy="5560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71600" y="2133720"/>
            <a:ext cx="914400" cy="228600"/>
          </a:xfrm>
          <a:prstGeom prst="ellipse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2880" y="6019920"/>
            <a:ext cx="79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elección de unidades entre las preconstruidas, el usuario puede definir su propio sistema de unida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57400" y="3276360"/>
            <a:ext cx="1676520" cy="281916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4600" y="0"/>
            <a:ext cx="44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SELECCIÓN DE SISTEMA DE 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30B-B67E-465D-A8C1-135D36DD0C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3760" y="0"/>
            <a:ext cx="36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SELECCIÓN DE COMPON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291440" cy="5619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8520" y="6095880"/>
            <a:ext cx="23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ombre dado por el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2040" y="609588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ombre “oficial” (inglé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2720" y="609588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órmu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14600" y="3276360"/>
            <a:ext cx="762120" cy="28954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876920" y="3276360"/>
            <a:ext cx="380880" cy="28954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019920" y="3276360"/>
            <a:ext cx="914400" cy="28954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0920" y="6324480"/>
            <a:ext cx="2859840" cy="307080"/>
          </a:xfrm>
          <a:prstGeom prst="rect">
            <a:avLst/>
          </a:prstGeom>
          <a:solidFill>
            <a:srgbClr val="e0e9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e debe introducir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uno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de estos 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6324480"/>
            <a:ext cx="18288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6324480"/>
            <a:ext cx="53316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6324480"/>
            <a:ext cx="304560" cy="7632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19920" y="6324480"/>
            <a:ext cx="914400" cy="7632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657600"/>
            <a:ext cx="1371600" cy="380880"/>
          </a:xfrm>
          <a:prstGeom prst="ellipse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579-526E-4BB3-88DC-96F4EE4141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8360" y="0"/>
            <a:ext cx="43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SELECCIÓN DE PROPIEDADES FÍS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7215120" cy="5560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76520" y="2362320"/>
            <a:ext cx="1447560" cy="380880"/>
          </a:xfrm>
          <a:prstGeom prst="ellipse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28000" y="61833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elección de un método entre los disponib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343400" y="3886200"/>
            <a:ext cx="380880" cy="236232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360" y="3505320"/>
            <a:ext cx="129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arámetro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219320" y="3200400"/>
            <a:ext cx="838080" cy="53352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A9F-EA71-45D0-ABE5-7A829DCD40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5505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19720" y="251460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3480" y="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SELECCIÓN DE MODELOS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0480" y="6248520"/>
            <a:ext cx="26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iferentes modelos de colum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133720" y="5638320"/>
            <a:ext cx="1828800" cy="6858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666880" y="5486400"/>
            <a:ext cx="1371600" cy="8380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352320" y="5638320"/>
            <a:ext cx="762120" cy="6858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962160" y="5714640"/>
            <a:ext cx="228600" cy="6094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267080" y="5715000"/>
            <a:ext cx="304920" cy="53352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19720" y="5715000"/>
            <a:ext cx="685800" cy="53352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495680" y="5715000"/>
            <a:ext cx="1143000" cy="53352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72000" y="5638680"/>
            <a:ext cx="1828800" cy="60984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648320" y="5638320"/>
            <a:ext cx="2361960" cy="6858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0360" y="3200400"/>
            <a:ext cx="21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iferentes ICONOS p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n mode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3505320"/>
            <a:ext cx="1523880" cy="7596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D19-8D83-480A-A476-557858877C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7543800" cy="5559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1080" y="2209680"/>
            <a:ext cx="13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0600" y="3733920"/>
            <a:ext cx="152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Opciones, bot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recho del rat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2362320"/>
            <a:ext cx="1828800" cy="29718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362320"/>
            <a:ext cx="2590920" cy="9144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3429000"/>
            <a:ext cx="76212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0" y="576"/>
                </a:moveTo>
                <a:cubicBezTo>
                  <a:pt x="108" y="516"/>
                  <a:pt x="216" y="456"/>
                  <a:pt x="288" y="384"/>
                </a:cubicBezTo>
                <a:cubicBezTo>
                  <a:pt x="360" y="312"/>
                  <a:pt x="400" y="208"/>
                  <a:pt x="432" y="144"/>
                </a:cubicBezTo>
                <a:cubicBezTo>
                  <a:pt x="464" y="80"/>
                  <a:pt x="472" y="40"/>
                  <a:pt x="48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3581280"/>
            <a:ext cx="76212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0" y="576"/>
                </a:moveTo>
                <a:cubicBezTo>
                  <a:pt x="108" y="516"/>
                  <a:pt x="216" y="456"/>
                  <a:pt x="288" y="384"/>
                </a:cubicBezTo>
                <a:cubicBezTo>
                  <a:pt x="360" y="312"/>
                  <a:pt x="400" y="208"/>
                  <a:pt x="432" y="144"/>
                </a:cubicBezTo>
                <a:cubicBezTo>
                  <a:pt x="464" y="80"/>
                  <a:pt x="472" y="40"/>
                  <a:pt x="48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3276720"/>
            <a:ext cx="76176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0" y="576"/>
                </a:moveTo>
                <a:cubicBezTo>
                  <a:pt x="108" y="516"/>
                  <a:pt x="216" y="456"/>
                  <a:pt x="288" y="384"/>
                </a:cubicBezTo>
                <a:cubicBezTo>
                  <a:pt x="360" y="312"/>
                  <a:pt x="400" y="208"/>
                  <a:pt x="432" y="144"/>
                </a:cubicBezTo>
                <a:cubicBezTo>
                  <a:pt x="464" y="80"/>
                  <a:pt x="472" y="40"/>
                  <a:pt x="48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714640" y="3962520"/>
            <a:ext cx="1066680" cy="6094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4560" y="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Benguiat Bk BT"/>
                <a:ea typeface="Times New Roman"/>
              </a:rPr>
              <a:t>SELECCIÓN DE MODELOS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5181480"/>
            <a:ext cx="457200" cy="914400"/>
          </a:xfrm>
          <a:prstGeom prst="ellipse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2133720"/>
            <a:ext cx="914400" cy="1218960"/>
          </a:xfrm>
          <a:prstGeom prst="ellipse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E16-380B-4269-BEEF-008D2A8805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2:26:01Z</dcterms:created>
  <dc:creator>Manuel Rodriguez</dc:creator>
  <dc:description/>
  <dc:language>en-US</dc:language>
  <cp:lastModifiedBy>Manuel Rodriguez</cp:lastModifiedBy>
  <dcterms:modified xsi:type="dcterms:W3CDTF">2003-10-16T09:37:47Z</dcterms:modified>
  <cp:revision>103</cp:revision>
  <dc:subject/>
  <dc:title>Presentación de PowerPoint</dc:title>
</cp:coreProperties>
</file>