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Benguiat Bk BT"/>
              </a:rPr>
              <a:t>Click to move the slide</a:t>
            </a: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2A5A-7B63-4EA2-87A3-995F88C4B7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Archivos tanque1.m,rk4m1.m y f1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odelo vaciado de tanque, archiv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Eulerm.m, rk4m.m, f.m (con la ecuacion)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anque.m con el main para llamar a todo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NOTA: Ver la estabilidad de Euler aumentando el pa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 integracion (bajando el valor de n hasta 10, 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AA73-0B2C-4DC2-A7F2-32938041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4AB6-A221-47EB-A0F3-38006C14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384-C2A1-486A-A763-AECA0F02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25B-8B87-4AD7-8A64-D05C88DA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F95-7919-4F8F-A386-A75ECE47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B25-A3B0-4A49-B6D3-1F568E60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D4E-24DD-4FCD-92DF-39FEDFFB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8AE-FD66-4396-9A00-788A5AAA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561-4415-4426-90DB-DE40D746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FE4-44AD-48CD-9B29-A389EDF4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17C-B808-45F6-ACD9-538977DE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CDC-F453-44E5-9FCC-D7CFA37F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Benguiat Bk BT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18112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Modelado y simulación en Ingeniería Química.  Manuel Rodrígu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-3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FE4D-9B05-4D7C-9D25-3A7B0FDEE6AC}" type="slidenum">
              <a:rPr b="1" lang="es-ES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logosultimo2" descr=""/>
          <p:cNvPicPr/>
          <p:nvPr/>
        </p:nvPicPr>
        <p:blipFill>
          <a:blip r:embed="rId9"/>
          <a:stretch/>
        </p:blipFill>
        <p:spPr>
          <a:xfrm>
            <a:off x="0" y="646128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686800" y="0"/>
            <a:ext cx="457200" cy="4572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067680" y="2362320"/>
            <a:ext cx="76320" cy="29718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2362320"/>
            <a:ext cx="76320" cy="29718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2590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Benguiat Bk BT"/>
              </a:rPr>
              <a:t>Tema 4: Simulación dinám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33200" y="74124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Book Antiqua"/>
              </a:rPr>
              <a:t>Runge kutta (orden 4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8560" y="2144880"/>
            <a:ext cx="142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=h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,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02840" y="2525760"/>
            <a:ext cx="2636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=h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+h/2,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+ 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2840" y="2906640"/>
            <a:ext cx="2636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=h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+h/2,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+ 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83040" y="3287880"/>
            <a:ext cx="239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Book Antiqua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=h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+h/2,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+ 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03520" y="4202280"/>
            <a:ext cx="45241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Book Antiqua"/>
              </a:rPr>
              <a:t>i+1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= 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 +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Book Antiqua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/6 +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Book Antiqua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/3 +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Book Antiqua"/>
              </a:rPr>
              <a:t>3 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/3 +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Book Antiqua"/>
              </a:rPr>
              <a:t>4 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/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31000" y="1380960"/>
            <a:ext cx="586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Book Antiqua"/>
              </a:rPr>
              <a:t>Algoritmo de orden 4 (número de términos) y orden del error 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42400" y="5114880"/>
            <a:ext cx="35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Book Antiqua"/>
              </a:rPr>
              <a:t>Funciones matlab ode23 y ode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12800" y="0"/>
            <a:ext cx="163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Métodos de resol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20520" y="64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Book Antiqua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2800" y="0"/>
            <a:ext cx="163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Métodos de resol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4343400"/>
          <a:ext cx="304812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304812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80880" y="457200"/>
            <a:ext cx="4130640" cy="20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Wingdings"/>
                <a:ea typeface="Wingdings"/>
              </a:rPr>
              <a:t></a:t>
            </a:r>
            <a:r>
              <a:rPr b="1" lang="es-ES" sz="1600" spc="-1" strike="noStrike">
                <a:solidFill>
                  <a:srgbClr val="000000"/>
                </a:solidFill>
                <a:latin typeface="Book Antiqua"/>
              </a:rPr>
              <a:t>Simular el comportamiento del tanque anterior empleando el algoritmo de </a:t>
            </a:r>
            <a:r>
              <a:rPr b="1" lang="es-ES" sz="1600" spc="-1" strike="noStrike">
                <a:solidFill>
                  <a:srgbClr val="990033"/>
                </a:solidFill>
                <a:latin typeface="Book Antiqua"/>
              </a:rPr>
              <a:t>Runge Kutta 4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Book Antiqua"/>
              </a:rPr>
              <a:t>Comparar los resultados </a:t>
            </a:r>
            <a:r>
              <a:rPr b="1" lang="es-ES" sz="1600" spc="-1" strike="noStrike">
                <a:solidFill>
                  <a:srgbClr val="000000"/>
                </a:solidFill>
                <a:latin typeface="Book Antiqua"/>
              </a:rPr>
              <a:t>con los proporcionados por el algoritmo de Euler según se disminuye el paso de integr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286000"/>
            <a:ext cx="413064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Wingdings"/>
                <a:ea typeface="Wingdings"/>
              </a:rPr>
              <a:t></a:t>
            </a:r>
            <a:r>
              <a:rPr b="1" lang="es-ES" sz="1600" spc="-1" strike="noStrike">
                <a:solidFill>
                  <a:srgbClr val="990033"/>
                </a:solidFill>
                <a:latin typeface="Book Antiqua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Book Antiqua"/>
              </a:rPr>
              <a:t>Modelar mediante Matlab dos tanques idénticos en ser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 Antiqua"/>
              </a:rPr>
              <a:t>Área 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 Antiqua"/>
              </a:rPr>
              <a:t>Flujo de entrada tanque 1 = 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 Antiqua"/>
              </a:rPr>
              <a:t>Flujo de entrada tanque 2 = 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 Antiqua"/>
              </a:rPr>
              <a:t>Altura inicial tanque 1 =0.8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 Antiqua"/>
              </a:rPr>
              <a:t>Altura inicial tanque 2 =0.2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 Antiqua"/>
              </a:rPr>
              <a:t>Simular el comportamiento empleando el algoritmo de </a:t>
            </a:r>
            <a:r>
              <a:rPr b="1" lang="es-ES" sz="1600" spc="-1" strike="noStrike">
                <a:solidFill>
                  <a:srgbClr val="990033"/>
                </a:solidFill>
                <a:latin typeface="Book Antiqua"/>
              </a:rPr>
              <a:t>Runge Kutta 4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2362320"/>
            <a:ext cx="41148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116640" y="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Book Antiqua"/>
              </a:rPr>
              <a:t>Métodos multi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04760" y="187164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Adams-Bash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9480" y="3967200"/>
            <a:ext cx="24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Adams-Mou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8520" y="2744640"/>
            <a:ext cx="44377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Book Antiqua"/>
              </a:rPr>
              <a:t>i+1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= 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+h/2 [3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(t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,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)-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(t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Book Antiqua"/>
              </a:rPr>
              <a:t>i-1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,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Book Antiqua"/>
              </a:rPr>
              <a:t>i-1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66960" y="5259240"/>
            <a:ext cx="792432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Book Antiqua"/>
              </a:rPr>
              <a:t>i+1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= 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+h/24 [9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(t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Book Antiqua"/>
              </a:rPr>
              <a:t>i+1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,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Book Antiqua"/>
              </a:rPr>
              <a:t>i+1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)+19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(t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,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)- 5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(t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Book Antiqua"/>
              </a:rPr>
              <a:t>i-1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,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Book Antiqua"/>
              </a:rPr>
              <a:t>i-1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)-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(t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Book Antiqua"/>
              </a:rPr>
              <a:t>i-2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,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Book Antiqua"/>
              </a:rPr>
              <a:t>i-2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62440" y="342900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Book Antiqua"/>
              </a:rPr>
              <a:t>Método explícito de 2 pa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5040" y="5943600"/>
            <a:ext cx="32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Book Antiqua"/>
              </a:rPr>
              <a:t>Método implícito de 3 pa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2800" y="0"/>
            <a:ext cx="163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Métodos de resol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124080" y="457200"/>
                <a:ext cx="38862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6680" y="2057400"/>
            <a:ext cx="632268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h/12 [23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- 16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+ 5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i-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i-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0360" y="3581280"/>
            <a:ext cx="5554440" cy="51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h/12 [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,x*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+8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i-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2160" y="6858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dictor-Cor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36880" y="1562040"/>
            <a:ext cx="365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étodo explícito para computar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x*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8760" y="3048120"/>
            <a:ext cx="485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étodo implícito para computar el valor  final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39640" y="4800600"/>
            <a:ext cx="68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Evita tener que resolver una ecuación algebraica en el método implíc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2800" y="0"/>
            <a:ext cx="163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Métodos de resol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1080" y="50652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</a:rPr>
              <a:t>ODEs de orden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295280"/>
            <a:ext cx="5029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 = f(x(t),x´(t),x´(t),...,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n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,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59280" y="2862360"/>
            <a:ext cx="317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71600" y="2895480"/>
                <a:ext cx="144936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x</m:t>
                        </m:r>
                        <m:r>
                          <m:t xml:space="preserve">′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x</m:t>
                        </m:r>
                        <m:r>
                          <m:rPr>
                            <m:lit/>
                            <m:nor/>
                          </m:rPr>
                          <m:t xml:space="preserve"> \( t \)  {} # 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
 {x}  rSub { size 8{n} }  \( t \) = {x}  rSup { size 8{ \(  ital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} }  \( t \)  {} 
} } {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676520" y="3200400"/>
            <a:ext cx="322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495680" y="2895480"/>
                <a:ext cx="342900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sSub>
                          <m:e>
                            <m:r>
                              <m:t xml:space="preserve">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sSub>
                          <m:e>
                            <m:r>
                              <m:t xml:space="preserve">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x</m:t>
                        </m:r>
                        <m:sSub>
                          <m:e>
                            <m:r>
                              <m:t xml:space="preserve">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sSub>
                          <m:e>
                            <m:r>
                              <m:t xml:space="preserve">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828800" y="52578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cualquier sistema de ecuaciones 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enciales (de primer orden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5638680"/>
            <a:ext cx="586728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ULTAN VÁLIDOS TODOS LOS MÉTODOS DE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TEGRACIÓN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523880"/>
            <a:ext cx="533520" cy="1295640"/>
          </a:xfrm>
          <a:custGeom>
            <a:avLst/>
            <a:gdLst>
              <a:gd name="textAreaLeft" fmla="*/ 71280 w 533520"/>
              <a:gd name="textAreaRight" fmla="*/ 462240 w 53352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35812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1981080"/>
            <a:ext cx="342900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istema de ODEs de orden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transformar a un siste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ODEs de primer o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2800" y="0"/>
            <a:ext cx="163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Métodos de resol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9040" y="588960"/>
            <a:ext cx="649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Book Antiqua"/>
              </a:rPr>
              <a:t>ECUACIONES DIFERENCIALES ALGEBRAICAS (DA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6920" y="267336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Book Antiqua"/>
              </a:rPr>
              <a:t>Stiff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9160" y="404496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Book Antiqua"/>
              </a:rPr>
              <a:t>Método de 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52080" y="3057480"/>
            <a:ext cx="76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Book Antiqua"/>
              </a:rPr>
              <a:t>Aparece cuando hay constantes de tiempo muy diferentes en un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Book Antiqua"/>
              </a:rPr>
              <a:t>Hay fenómenos muy rápidos y fenómenos lentos mezcl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Book Antiqua"/>
              </a:rPr>
              <a:t>Se presenta en muchos modelos de procesos de la industria quím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Book Antiqua"/>
              </a:rPr>
              <a:t>Se deben emplear métodos implícitos (y de paso vari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88280" y="1149480"/>
            <a:ext cx="67644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DAEs: Conjunto de ecuaciones diferenciales y algebra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1905120"/>
            <a:ext cx="1981440" cy="785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x' = f(x, 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,y,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g(x, 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,y, t)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19051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 Antiqua"/>
              </a:rPr>
              <a:t>Semi-explicit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4800600"/>
            <a:ext cx="53337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Dado x(tn) se resuelve</a:t>
            </a: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 g(x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(t</a:t>
            </a: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u(t</a:t>
            </a: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) = 0 ==&gt; 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se obtiene u(t</a:t>
            </a: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• 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Empleando un método </a:t>
            </a: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explícito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 de resolución de</a:t>
            </a: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 ODE 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x' = f(x, 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, t)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 se obtiene x(t</a:t>
            </a: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n+1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17320" y="5799240"/>
            <a:ext cx="543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Resol</a:t>
            </a: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ve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 x' = f(x,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, t), g(x, 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, t)=0 </a:t>
            </a: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de forma simultánea medi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métodos implícitos (BDF). Por ejemplo: </a:t>
            </a: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Método de G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5680" y="442584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Forma secu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2560" y="549288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Forma simultá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2800" y="0"/>
            <a:ext cx="163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Métodos de resol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96640" y="228600"/>
            <a:ext cx="78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étodos implícitos BDF (Backward Differentiation Formul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914400" y="838080"/>
                <a:ext cx="263700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219320" y="3505320"/>
                <a:ext cx="626580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09880" y="2057400"/>
                <a:ext cx="29718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1065240" y="2306520"/>
            <a:ext cx="196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</a:rPr>
              <a:t>DAEs for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</a:rPr>
              <a:t>Semi-explí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0360" y="5410080"/>
            <a:ext cx="83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90033"/>
                </a:solidFill>
                <a:latin typeface="Book Antiqua"/>
              </a:rPr>
              <a:t>Para cada paso de integración hay que resolver este sistema de ecu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90033"/>
                </a:solidFill>
                <a:latin typeface="Book Antiqua"/>
              </a:rPr>
              <a:t>algebraicas. Por Newton (u otro método de resolu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-1440" y="0"/>
            <a:ext cx="44784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Simulación dinámica con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219320"/>
            <a:ext cx="32004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1219320"/>
            <a:ext cx="312408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440" y="75888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Book Antiqua"/>
              </a:rPr>
              <a:t>main_tanque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20640" y="758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Book Antiqua"/>
              </a:rPr>
              <a:t>tanque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42920" y="1523880"/>
            <a:ext cx="275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VALORES INI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DE VARIABLES DE 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6480" y="2286000"/>
            <a:ext cx="26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TIEMPO DE SIMU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90800" y="2895480"/>
            <a:ext cx="236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LLAMADA A METO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NUMÉ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33200" y="3733920"/>
            <a:ext cx="27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GRÁFICO DE 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58400" y="3124080"/>
            <a:ext cx="195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ECUACIONES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MOD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05680" y="1905120"/>
            <a:ext cx="282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VALORES DE PARÁME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Y VARIABLES 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274320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1400" y="5181480"/>
            <a:ext cx="282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VALORES DE PARÁME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Y VARIABLES 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2578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También pueden estar en el archivo principal, pero en ese caso hay que poner esas variables como </a:t>
            </a:r>
            <a:r>
              <a:rPr b="1" i="1" lang="es-ES" sz="1800" spc="-1" strike="noStrike">
                <a:solidFill>
                  <a:srgbClr val="000000"/>
                </a:solidFill>
                <a:latin typeface="Book Antiqua"/>
              </a:rPr>
              <a:t>globales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905120" y="762120"/>
            <a:ext cx="64008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22860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Book Antiqua"/>
              </a:rPr>
              <a:t>main_tanque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24280" y="9907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clear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60120" y="1600200"/>
            <a:ext cx="575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y_ini=[0.2 0.7]; </a:t>
            </a:r>
            <a:r>
              <a:rPr b="1" lang="es-ES" sz="1600" spc="-1" strike="noStrike">
                <a:solidFill>
                  <a:srgbClr val="0099ff"/>
                </a:solidFill>
                <a:latin typeface="Book Antiqua"/>
              </a:rPr>
              <a:t>%valores iniciales de variables de 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09960" y="2209680"/>
            <a:ext cx="212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t_ini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t_fin=1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t_span=[ t_ini t_fin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5920" y="3429000"/>
            <a:ext cx="649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[t,y]=</a:t>
            </a:r>
            <a:r>
              <a:rPr b="1" lang="es-ES" sz="1600" spc="-1" strike="noStrike">
                <a:solidFill>
                  <a:srgbClr val="009999"/>
                </a:solidFill>
                <a:latin typeface="Book Antiqua"/>
              </a:rPr>
              <a:t>ode45</a:t>
            </a: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(‘tanque’,t_span,y_ini);  %llama al método numé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2209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Book Antiqua"/>
              </a:rPr>
              <a:t>%tiempo inicial de la si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24382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Book Antiqua"/>
              </a:rPr>
              <a:t>%tiempo final de la si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21320" y="4114800"/>
            <a:ext cx="567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plot(t,y(:,1)) </a:t>
            </a:r>
            <a:r>
              <a:rPr b="1" lang="es-ES" sz="1600" spc="-1" strike="noStrike">
                <a:solidFill>
                  <a:srgbClr val="0099ff"/>
                </a:solidFill>
                <a:latin typeface="Book Antiqua"/>
              </a:rPr>
              <a:t>%Realizar algún gráfico con los 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79132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ook Antiqua"/>
              </a:rPr>
              <a:t>Devuelve el tiempo y las variables de estado. Como una matriz donde cada columna tiene el vector resultado para todos los tiem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5440" y="3733920"/>
            <a:ext cx="1600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447560" y="2514600"/>
            <a:ext cx="1447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371600"/>
            <a:ext cx="182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ook Antiqua"/>
              </a:rPr>
              <a:t>Cualquier método numérico de Matlab (ode45, ode23, ode15s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1600200" y="9140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572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ook Antiqua"/>
              </a:rPr>
              <a:t>Borra variables en mem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533520"/>
            <a:ext cx="7010640" cy="53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20240" y="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Book Antiqua"/>
              </a:rPr>
              <a:t>tanque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57200" y="76212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function dy_dt=tanque(t,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74680" y="1371600"/>
            <a:ext cx="670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h1=y(1); </a:t>
            </a:r>
            <a:r>
              <a:rPr b="1" lang="es-ES" sz="1600" spc="-1" strike="noStrike">
                <a:solidFill>
                  <a:srgbClr val="0099ff"/>
                </a:solidFill>
                <a:latin typeface="Book Antiqua"/>
              </a:rPr>
              <a:t>%en el caso de que el modelo esté expresado en fu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h2=y(2); </a:t>
            </a:r>
            <a:r>
              <a:rPr b="1" lang="es-ES" sz="1600" spc="-1" strike="noStrike">
                <a:solidFill>
                  <a:srgbClr val="0099ff"/>
                </a:solidFill>
                <a:latin typeface="Book Antiqua"/>
              </a:rPr>
              <a:t>% de estas variables y no de la variable </a:t>
            </a:r>
            <a:r>
              <a:rPr b="0" i="1" lang="es-ES" sz="1600" spc="-1" strike="noStrike">
                <a:solidFill>
                  <a:srgbClr val="0099ff"/>
                </a:solidFill>
                <a:latin typeface="Book Antiqu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79240" y="1981080"/>
            <a:ext cx="1799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F_in1=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F_in2=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Area=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Area_salida=0.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2096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Book Antiqua"/>
              </a:rPr>
              <a:t>%Valores de parámetros y variables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19120" y="4876920"/>
            <a:ext cx="182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dy_dt(1)=dh1_d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dy_dt(2)=dh2_d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dy_dt=dy_dt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352680"/>
            <a:ext cx="6019560" cy="1447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43434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Book Antiqua"/>
              </a:rPr>
              <a:t>%ecuaciones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352680"/>
            <a:ext cx="990720" cy="76212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5105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ff"/>
                </a:solidFill>
                <a:latin typeface="Book Antiqua"/>
              </a:rPr>
              <a:t>%asigna las variables al vector argumento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60199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90033"/>
                </a:solidFill>
                <a:latin typeface="Book Antiqua"/>
              </a:rPr>
              <a:t>Estas variables NO son conocidas por main_tanque para representar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55960" y="3429000"/>
            <a:ext cx="630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F_out1= </a:t>
            </a:r>
            <a:r>
              <a:rPr b="1" lang="en-GB" sz="1600" spc="-1" strike="noStrike">
                <a:solidFill>
                  <a:srgbClr val="3333cc"/>
                </a:solidFill>
                <a:latin typeface="Book Antiqua"/>
              </a:rPr>
              <a:t>sqrt(2</a:t>
            </a: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*g</a:t>
            </a:r>
            <a:r>
              <a:rPr b="1" lang="en-GB" sz="1600" spc="-1" strike="noStrike">
                <a:solidFill>
                  <a:srgbClr val="3333cc"/>
                </a:solidFill>
                <a:latin typeface="Book Antiqua"/>
              </a:rPr>
              <a:t>*</a:t>
            </a: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h1</a:t>
            </a:r>
            <a:r>
              <a:rPr b="1" lang="en-GB" sz="1600" spc="-1" strike="noStrike">
                <a:solidFill>
                  <a:srgbClr val="3333cc"/>
                </a:solidFill>
                <a:latin typeface="Book Antiqua"/>
              </a:rPr>
              <a:t>-2</a:t>
            </a: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*g</a:t>
            </a:r>
            <a:r>
              <a:rPr b="1" lang="en-GB" sz="1600" spc="-1" strike="noStrike">
                <a:solidFill>
                  <a:srgbClr val="3333cc"/>
                </a:solidFill>
                <a:latin typeface="Book Antiqua"/>
              </a:rPr>
              <a:t>*h</a:t>
            </a: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2</a:t>
            </a:r>
            <a:r>
              <a:rPr b="1" lang="en-GB" sz="1600" spc="-1" strike="noStrike">
                <a:solidFill>
                  <a:srgbClr val="3333cc"/>
                </a:solidFill>
                <a:latin typeface="Book Antiqua"/>
              </a:rPr>
              <a:t>)*area_s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F_out2= </a:t>
            </a:r>
            <a:r>
              <a:rPr b="1" lang="en-GB" sz="1600" spc="-1" strike="noStrike">
                <a:solidFill>
                  <a:srgbClr val="3333cc"/>
                </a:solidFill>
                <a:latin typeface="Book Antiqua"/>
              </a:rPr>
              <a:t>sqrt(2</a:t>
            </a: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*g</a:t>
            </a:r>
            <a:r>
              <a:rPr b="1" lang="en-GB" sz="1600" spc="-1" strike="noStrike">
                <a:solidFill>
                  <a:srgbClr val="3333cc"/>
                </a:solidFill>
                <a:latin typeface="Book Antiqua"/>
              </a:rPr>
              <a:t>*h1-2</a:t>
            </a: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*g</a:t>
            </a:r>
            <a:r>
              <a:rPr b="1" lang="en-GB" sz="1600" spc="-1" strike="noStrike">
                <a:solidFill>
                  <a:srgbClr val="3333cc"/>
                </a:solidFill>
                <a:latin typeface="Book Antiqua"/>
              </a:rPr>
              <a:t>*h2)*area_sal-sqrt(2</a:t>
            </a: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*g</a:t>
            </a:r>
            <a:r>
              <a:rPr b="1" lang="en-GB" sz="1600" spc="-1" strike="noStrike">
                <a:solidFill>
                  <a:srgbClr val="3333cc"/>
                </a:solidFill>
                <a:latin typeface="Book Antiqua"/>
              </a:rPr>
              <a:t>*h2)*area_s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Book Antiqua"/>
              </a:rPr>
              <a:t>dh1_dt=(F_in</a:t>
            </a: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1</a:t>
            </a:r>
            <a:r>
              <a:rPr b="1" lang="en-GB" sz="1600" spc="-1" strike="noStrike">
                <a:solidFill>
                  <a:srgbClr val="3333cc"/>
                </a:solidFill>
                <a:latin typeface="Book Antiqua"/>
              </a:rPr>
              <a:t>-</a:t>
            </a: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F_out1)/</a:t>
            </a:r>
            <a:r>
              <a:rPr b="1" lang="en-GB" sz="1600" spc="-1" strike="noStrike">
                <a:solidFill>
                  <a:srgbClr val="3333cc"/>
                </a:solidFill>
                <a:latin typeface="Book Antiqua"/>
              </a:rPr>
              <a:t>are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Book Antiqua"/>
              </a:rPr>
              <a:t>dh2_dt=(F_in2</a:t>
            </a:r>
            <a:r>
              <a:rPr b="1" lang="es-ES" sz="1600" spc="-1" strike="noStrike">
                <a:solidFill>
                  <a:srgbClr val="3333cc"/>
                </a:solidFill>
                <a:latin typeface="Book Antiqua"/>
              </a:rPr>
              <a:t>-F_out2)/</a:t>
            </a:r>
            <a:r>
              <a:rPr b="1" lang="en-GB" sz="1600" spc="-1" strike="noStrike">
                <a:solidFill>
                  <a:srgbClr val="3333cc"/>
                </a:solidFill>
                <a:latin typeface="Book Antiqua"/>
              </a:rPr>
              <a:t>are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142640" y="380988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Book Antiqua"/>
              </a:rPr>
              <a:t>Simulación dinámica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Book Antiqua"/>
              </a:rPr>
              <a:t>Simuladores orientados a ecuaciones 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Book Antiqua"/>
              </a:rPr>
              <a:t>Métodos de Resolución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Book Antiqua"/>
              </a:rPr>
              <a:t>Introducción a Abacuss</a:t>
            </a:r>
            <a:endParaRPr b="0" lang="en-US" sz="2800" spc="-1" strike="noStrike">
              <a:solidFill>
                <a:srgbClr val="cc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Benguiat Bk BT"/>
              </a:rPr>
              <a:t>ÍNDICE</a:t>
            </a:r>
            <a:endParaRPr b="0" lang="en-US" sz="3600" spc="-1" strike="noStrike">
              <a:solidFill>
                <a:srgbClr val="990000"/>
              </a:solidFill>
              <a:latin typeface="Benguiat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698920" y="609480"/>
            <a:ext cx="5638680" cy="4980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520" y="0"/>
            <a:ext cx="357768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Introducción a Abacuss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2880" y="685800"/>
            <a:ext cx="276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</a:rPr>
              <a:t>Escribiendo un mode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98920" y="1447920"/>
            <a:ext cx="56386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42200" y="1523880"/>
            <a:ext cx="412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# 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#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l símbolo </a:t>
            </a: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#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indica el comienzo de un co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# ----------------- MODELO TANQUE 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1080" y="1523880"/>
            <a:ext cx="206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ditor de tex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Wordpad, notepa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word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676520" y="1371600"/>
            <a:ext cx="990360" cy="3808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01800" y="228600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CL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01080" y="320040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01080" y="518148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33520" y="259092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33880" y="28195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57920" y="3352680"/>
            <a:ext cx="1264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ARIABL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E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ET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QU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E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95840" y="5486400"/>
            <a:ext cx="112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ELECTOR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01640" y="5486400"/>
            <a:ext cx="114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QUATIO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PUT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57560" y="5486400"/>
            <a:ext cx="974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OPTIONS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6800" y="270504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3 Se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incip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447920" y="2438280"/>
            <a:ext cx="137160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2971800"/>
            <a:ext cx="1295280" cy="3808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3048120"/>
            <a:ext cx="1295280" cy="22860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29200" y="380988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ubse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222800" y="2742840"/>
            <a:ext cx="3581280" cy="11430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222800" y="2971800"/>
            <a:ext cx="3581280" cy="99072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451400" y="3504960"/>
            <a:ext cx="3200400" cy="53316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451400" y="4114800"/>
            <a:ext cx="3124080" cy="76212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51400" y="3733920"/>
            <a:ext cx="152280" cy="15228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51400" y="4114800"/>
            <a:ext cx="152280" cy="15228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51400" y="4419720"/>
            <a:ext cx="152280" cy="15228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146120" y="4191120"/>
            <a:ext cx="3581640" cy="12952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432480" y="4267080"/>
            <a:ext cx="1447920" cy="121932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56320" y="5410080"/>
            <a:ext cx="152280" cy="1526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37200" y="5410080"/>
            <a:ext cx="152280" cy="1526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18080" y="5410080"/>
            <a:ext cx="152640" cy="1526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75280" y="5410080"/>
            <a:ext cx="152640" cy="1526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01080" y="487692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01080" y="29718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1080" y="61722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327672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aban siempre con la palabra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7280" y="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Introducción a Abacus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6805440" cy="5084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275200" y="3886200"/>
            <a:ext cx="59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Nombre</a:t>
            </a:r>
            <a:r>
              <a:rPr b="1" lang="en-GB" sz="14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Valor por defecto</a:t>
            </a:r>
            <a:r>
              <a:rPr b="1" lang="en-GB" sz="14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valor mín</a:t>
            </a:r>
            <a:r>
              <a:rPr b="1" lang="en-GB" sz="14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valor máx</a:t>
            </a:r>
            <a:r>
              <a:rPr b="1" lang="en-GB" sz="1400" spc="-1" strike="noStrike">
                <a:solidFill>
                  <a:srgbClr val="990033"/>
                </a:solidFill>
                <a:latin typeface="Times New Roman"/>
              </a:rPr>
              <a:t> [ UNIT = </a:t>
            </a: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“unidades”</a:t>
            </a:r>
            <a:r>
              <a:rPr b="1" lang="en-GB" sz="1400" spc="-1" strike="noStrike">
                <a:solidFill>
                  <a:srgbClr val="990033"/>
                </a:solidFill>
                <a:latin typeface="Times New Roman"/>
              </a:rPr>
              <a:t> 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4114800"/>
            <a:ext cx="152640" cy="2286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114800"/>
            <a:ext cx="76320" cy="2286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562360" y="4114800"/>
            <a:ext cx="228600" cy="1522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324120" y="4114800"/>
            <a:ext cx="381240" cy="2286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4114800"/>
            <a:ext cx="76320" cy="2286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82280" y="5791320"/>
            <a:ext cx="36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Nombre  IS variable1 [,variable2,variable3,...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971800" y="5714640"/>
            <a:ext cx="76320" cy="1522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809880" y="5714640"/>
            <a:ext cx="457200" cy="2286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0" y="0"/>
            <a:ext cx="26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</a:rPr>
              <a:t>La sección DEC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657600"/>
            <a:ext cx="176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 especifican los tipos de variable a emplear en el mod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4876920"/>
            <a:ext cx="1768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 especifican los tipos de corriente (que tendrá alguna de las variables anteri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4343400"/>
            <a:ext cx="990360" cy="76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5334120"/>
            <a:ext cx="60984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7280" y="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Introducción a Abacus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6524640" cy="61628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504880" y="4724280"/>
            <a:ext cx="644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Inlet: nombre1 [,nombre2,..]   AS nombre_tipo_corriente (definido en DECLA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07040" y="4114800"/>
            <a:ext cx="51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Nombre1[,nombre2...]  AS tipo_variable (definida en DECLA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1280" y="2666880"/>
            <a:ext cx="470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Nombre1[,nombre2...]  AS REAL, INTEGER O LOG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809880"/>
            <a:ext cx="2438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Lista de ecuaciones empleando las variables definidas anteriormente. Las derivadas se denotan añadiendo $ delante de la vari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Admite construcciones c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FOR ... TO ...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IF ... THEN ... ELSE .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CASE ....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4800600"/>
            <a:ext cx="457200" cy="6858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2133720"/>
            <a:ext cx="5486400" cy="761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2895480"/>
            <a:ext cx="5638680" cy="1447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14600" y="4343400"/>
            <a:ext cx="6324480" cy="609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-720" y="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</a:rPr>
              <a:t>La secció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6130800" cy="6248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780960" y="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Introducción a Abacus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1828800"/>
            <a:ext cx="245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Instancias de los modelos cre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2438280"/>
            <a:ext cx="237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Fija valores de los PARÁME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3276720"/>
            <a:ext cx="237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Fija valores de las VARIABLES de en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3962520"/>
            <a:ext cx="230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Ecuaciones ( o asignaciones) para indicar los valores iniciales para las variables que aparecen deriv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5181480"/>
            <a:ext cx="230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Indica la evolución de la simul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RESET cambia los valores de variables de entrada en determinados tiemp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9680" y="2133720"/>
            <a:ext cx="6858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2590920"/>
            <a:ext cx="990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3505320"/>
            <a:ext cx="6858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4114800"/>
            <a:ext cx="761760" cy="3049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286000" y="5181120"/>
            <a:ext cx="533520" cy="3049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514600" y="5715000"/>
            <a:ext cx="685800" cy="76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1800" y="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</a:rPr>
              <a:t>La sección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7280" y="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Introducción a Abacus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-2160" y="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</a:rPr>
              <a:t>Ejecutando ABACUSS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315120" cy="51055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Carga un modelo para la sim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57600" y="7621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Selecciona una simulación para ejecutar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5600" y="914400"/>
            <a:ext cx="159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Limpia la pant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16765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Sale del prog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28800" y="289548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Muestra tipos de variables, modelos, corrientes,... están carg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2971800"/>
            <a:ext cx="268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90033"/>
                </a:solidFill>
                <a:latin typeface="Times New Roman"/>
              </a:rPr>
              <a:t>Análisis de los bloques que se forman para la resolución matemá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23880" y="1905120"/>
            <a:ext cx="457200" cy="7596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666880" y="2361960"/>
            <a:ext cx="381240" cy="53316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419720" y="2361960"/>
            <a:ext cx="228600" cy="6858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019560" y="1143000"/>
            <a:ext cx="228600" cy="6858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876560" y="1143000"/>
            <a:ext cx="152280" cy="7621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467480" y="1828800"/>
            <a:ext cx="457200" cy="1522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7280" y="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Introducción a Abacus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782040" cy="54896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667240" y="30492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Times New Roman"/>
              </a:rPr>
              <a:t>Cargando un model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780960" y="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Introducción a Abacus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414440" y="905040"/>
            <a:ext cx="6315120" cy="50479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971080" y="53352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Times New Roman"/>
              </a:rPr>
              <a:t>Ejecutando el model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780960" y="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Introducción a Abacus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438200" y="900000"/>
            <a:ext cx="6267600" cy="5058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049920" y="53352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Times New Roman"/>
              </a:rPr>
              <a:t>Resultados en panta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7280" y="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Introducción a Abacus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76440" y="919080"/>
            <a:ext cx="7791120" cy="5019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048120" y="53352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Times New Roman"/>
              </a:rPr>
              <a:t>Resultados en archivo Excel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7280" y="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Introducción a Abacuss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005680" cy="46180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047760" y="533520"/>
            <a:ext cx="33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Times New Roman"/>
              </a:rPr>
              <a:t>Resultados en archivo Excel y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720" y="0"/>
            <a:ext cx="291924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Simulación 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828800"/>
            <a:ext cx="7162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Ope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JRespuesta de procesos continuos ante perturb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JAjuste de contro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JManiobras y desviaciones anormales en el proceso, para estudios de seguridad y de emi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JAnálisis de operabilidad y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JValidación de procedimientos de emerg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JEntrenamiento de oper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iseñ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JSistema de control y control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JProcedimientos de puesta en marcha y pa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JProcesos discontinu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98320" y="1076400"/>
            <a:ext cx="598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990033"/>
                </a:solidFill>
                <a:latin typeface="Book Antiqua"/>
              </a:rPr>
              <a:t>Estudia el comportamiento transitorio de un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Simula su evolución temporal con distintos fi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00200" y="2514600"/>
            <a:ext cx="641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Las ecuaciones y variables de todos los modelos de unidades se definen individu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Las ecuaciones y variables conforman un sistema (grande) de ecuaciones no lin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Se añaden especificaciones hasta que el sistema tiene grados de libertad C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l sistema de ecuaciones se resuelve de forma directa y simultán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44040" y="1990800"/>
            <a:ext cx="40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Pasos para establecer la simul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1080" y="0"/>
            <a:ext cx="495252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Simuladores orientados a ecu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79320" y="1305000"/>
            <a:ext cx="61822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Book Antiqua"/>
              </a:rPr>
              <a:t>Es la estrategia empleada para la simulación dinám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95280" y="609480"/>
            <a:ext cx="5578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Book Antiqua"/>
              </a:rPr>
              <a:t>Ventaj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s más eficiente que la estrategia secuencial mod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No distingue entre simulación y diseño de especif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s más fácil hacer una librería de modelos extensible y reutiliz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s utilizable en simulación dinámica, estacionaria y optim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Es más fácil el diagnóstico de ciertos errores. Como sistemas de ecuaciones mal especif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733920"/>
            <a:ext cx="550224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Book Antiqua"/>
              </a:rPr>
              <a:t>Inconvenientes</a:t>
            </a: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 (en la simulación estacion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Los algoritmos de resolución de NAEs no son tan robustos y fiables como los del caso secuencial mod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Necesita más recursos de computación (memoria principalmen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 Antiqua"/>
              </a:rPr>
              <a:t>Debido al primer inconveniente </a:t>
            </a:r>
            <a:r>
              <a:rPr b="1" i="1" lang="es-ES" sz="1800" spc="-1" strike="noStrike">
                <a:solidFill>
                  <a:srgbClr val="990033"/>
                </a:solidFill>
                <a:latin typeface="Book Antiqua"/>
              </a:rPr>
              <a:t>esta estrategia no es actualmente competitiva frente a la resolución secuencial modular para simulación estacion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040" y="228600"/>
            <a:ext cx="61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Book Antiqua"/>
              </a:rPr>
              <a:t>Orientado a ecuaciones vs. Secuencial mod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2080" y="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Simuladores orientados a ecu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447920"/>
            <a:ext cx="312408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Œ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eleccionar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Variables de es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: Variables independien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(generalmente variables  de entra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: Variables dependientes resul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 ecuaciones algebra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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Ordenar ecu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v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=g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(x,u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v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=g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(x,u,v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v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=g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(x,u,v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v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,...,v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i-1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x ´=f(x,u,v,t)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1447920"/>
            <a:ext cx="457200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Ž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nicializar la integ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Book Antiqua"/>
                <a:ea typeface="Times New Roman"/>
              </a:rPr>
              <a:t>Elección del paso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Book Antiqua"/>
                <a:ea typeface="Times New Roman"/>
              </a:rPr>
              <a:t>Valores iniciales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de variables 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,u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,v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Valores iniciales de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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ucle de si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alcular  f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=f(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,u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,v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,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ncrementar el tiempo t=t+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aso de integración   x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r+1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unción de f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,f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r-1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,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osible actualización de u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r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Obtener ordenadamente v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i,r+1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para I=1,2,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ada cierto tiempo imprimir o recolectar 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Verificar condiciones de fin de simu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2666880"/>
            <a:ext cx="609840" cy="1447920"/>
          </a:xfrm>
          <a:custGeom>
            <a:avLst/>
            <a:gdLst>
              <a:gd name="textAreaLeft" fmla="*/ 81720 w 609840"/>
              <a:gd name="textAreaRight" fmla="*/ 528120 w 60984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590920"/>
            <a:ext cx="733320" cy="137160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7464200">
            <a:off x="2315880" y="3169800"/>
            <a:ext cx="2863800" cy="485640"/>
          </a:xfrm>
          <a:custGeom>
            <a:avLst/>
            <a:gdLst>
              <a:gd name="textAreaLeft" fmla="*/ 447480 w 2863800"/>
              <a:gd name="textAreaRight" fmla="*/ 2505960 w 28638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7800" y="45720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Times New Roman"/>
              </a:rPr>
              <a:t>Algoritmo de simulación de sistemas 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2080" y="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Simuladores orientados a ecu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0240" y="893880"/>
            <a:ext cx="64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Book Antiqua"/>
              </a:rPr>
              <a:t>ECUACIONES DIFERENCIALES ORDINARIAS (O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0920" y="302724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Book Antiqua"/>
              </a:rPr>
              <a:t>Métodos de paso ú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4400" y="1365120"/>
            <a:ext cx="19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´(t)=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x(t)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34360" y="2305080"/>
            <a:ext cx="28814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(t)=x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Times New Roman"/>
              </a:rPr>
              <a:t>t0</a:t>
            </a:r>
            <a:r>
              <a:rPr b="1" lang="es-ES" sz="2400" spc="-1" strike="noStrike" baseline="72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x(t),t)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29240" y="3726000"/>
            <a:ext cx="782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 Antiqua"/>
              </a:rPr>
              <a:t>Son métodos que emplean únicamente el valor calculado en el punto (pas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 Antiqua"/>
              </a:rPr>
              <a:t>anterior. Se basan en aproximar la función f(x,t) mediante un desarrollo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 Antiqua"/>
              </a:rPr>
              <a:t>serie de Taylo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0960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Métodos de 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219320" y="4800600"/>
                <a:ext cx="61070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32280" y="34844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Book Antiqua"/>
              </a:rPr>
              <a:t>Euler implíc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8960" y="58896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Book Antiqua"/>
              </a:rPr>
              <a:t>Euler explíc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57240" y="2144880"/>
            <a:ext cx="31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x(t+h)=x(t)+h dx(t)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57240" y="138600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dx(t)/dt 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(x(t)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05000" y="1687680"/>
            <a:ext cx="33091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x(t+h)=x(t)+h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(x(t)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60200" y="4659480"/>
            <a:ext cx="3682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x(t+h)=x(t)+h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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(x(t+h)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07240" y="5613480"/>
            <a:ext cx="42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Book Antiqua"/>
              </a:rPr>
              <a:t>h es el paso de 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7960" y="2943360"/>
            <a:ext cx="76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Book Antiqua"/>
              </a:rPr>
              <a:t>No es siempre estable (puede oscilar o divergir para pasos peque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2800" y="0"/>
            <a:ext cx="163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Métodos de resol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2680" y="46656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Book Antiqu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2800" y="0"/>
            <a:ext cx="163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50021"/>
                </a:solidFill>
                <a:latin typeface="Times New Roman"/>
              </a:rPr>
              <a:t>Métodos de resol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981080" y="3962520"/>
          <a:ext cx="16336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62520"/>
                    <a:ext cx="16336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80880" y="1219320"/>
            <a:ext cx="4130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Book Antiqua"/>
              </a:rPr>
              <a:t>Modelar mediante Matlab el vaciado de un tanq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 Antiqua"/>
              </a:rPr>
              <a:t>Área 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 Antiqua"/>
              </a:rPr>
              <a:t>Flujo de entrad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 Antiqua"/>
              </a:rPr>
              <a:t>Altura inicial 1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 Antiqua"/>
              </a:rPr>
              <a:t>Área salid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Book Antiqua"/>
              </a:rPr>
              <a:t>Simular el comportamiento del tanque empleando el algoritmo de </a:t>
            </a:r>
            <a:r>
              <a:rPr b="1" lang="es-ES" sz="1600" spc="-1" strike="noStrike">
                <a:solidFill>
                  <a:srgbClr val="990033"/>
                </a:solidFill>
                <a:latin typeface="Book Antiqua"/>
              </a:rPr>
              <a:t>Euler Explíci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2:21:51Z</dcterms:created>
  <dc:creator>Manuel Rodriguez</dc:creator>
  <dc:description/>
  <dc:language>en-US</dc:language>
  <cp:lastModifiedBy>Manuel Rodriguez</cp:lastModifiedBy>
  <dcterms:modified xsi:type="dcterms:W3CDTF">2004-03-22T12:03:01Z</dcterms:modified>
  <cp:revision>80</cp:revision>
  <dc:subject/>
  <dc:title>Presentación de PowerPoint</dc:title>
</cp:coreProperties>
</file>