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61FC-2CB6-4C39-A0FC-CF7C8E8B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5A5-6EC3-4A1D-80A3-BBB5DC2D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E429-1B06-48FB-A905-BCBFB5C8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429-B883-41E5-B38E-68E0B0FA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E3D-638D-46C3-B02F-A61EA964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3DC-82E7-4E3D-A4F8-8D96FA06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EE10-973E-45ED-85A3-50E85A50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900E-352E-43E1-982C-79424202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4730-0D15-4D4F-99AE-85958967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BA82-E4BB-4861-90AD-7DA388F4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3B6C-8CA9-40E2-A4D7-5F100763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001-3C90-4E0F-B1D8-EA83F0E3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Benguiat Bk BT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18112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Modelado y simulación en Ingeniería Química.  Manuel Rodrígu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-3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705B-4EAE-43AC-BDD7-B8EC00809211}" type="slidenum">
              <a:rPr b="1" lang="es-E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logosultimo2" descr=""/>
          <p:cNvPicPr/>
          <p:nvPr/>
        </p:nvPicPr>
        <p:blipFill>
          <a:blip r:embed="rId9"/>
          <a:stretch/>
        </p:blipFill>
        <p:spPr>
          <a:xfrm>
            <a:off x="0" y="646128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686800" y="0"/>
            <a:ext cx="457200" cy="45720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067680" y="2362320"/>
            <a:ext cx="76320" cy="29718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2362320"/>
            <a:ext cx="76320" cy="29718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81080" y="25909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Benguiat Bk BT"/>
              </a:rPr>
              <a:t>Tema 6: Modelado de sistemas distribui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4572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Book Antiqua"/>
              </a:rPr>
              <a:t>Balance a compon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3640" y="1495440"/>
            <a:ext cx="54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El</a:t>
            </a:r>
            <a:r>
              <a:rPr b="1" lang="es-E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s-ES" sz="1800" spc="-1" strike="noStrike">
                <a:solidFill>
                  <a:srgbClr val="cc3300"/>
                </a:solidFill>
                <a:latin typeface="Book Antiqua"/>
              </a:rPr>
              <a:t>flujo</a:t>
            </a:r>
            <a:r>
              <a:rPr b="1" lang="es-E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s-ES" sz="1800" spc="-1" strike="noStrike">
                <a:solidFill>
                  <a:srgbClr val="cc3300"/>
                </a:solidFill>
                <a:latin typeface="Book Antiqua"/>
              </a:rPr>
              <a:t>molar (N)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 puede tener una componente de </a:t>
            </a:r>
            <a:r>
              <a:rPr b="1" lang="es-ES" sz="1800" spc="-1" strike="noStrike">
                <a:solidFill>
                  <a:srgbClr val="cc3300"/>
                </a:solidFill>
                <a:latin typeface="Book Antiqua"/>
              </a:rPr>
              <a:t>convección</a:t>
            </a:r>
            <a:r>
              <a:rPr b="0" lang="es-ES" sz="1800" spc="-1" strike="noStrike">
                <a:solidFill>
                  <a:srgbClr val="cc3300"/>
                </a:solidFill>
                <a:latin typeface="Book Antiqu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y una componente de </a:t>
            </a:r>
            <a:r>
              <a:rPr b="1" lang="es-ES" sz="1800" spc="-1" strike="noStrike">
                <a:solidFill>
                  <a:srgbClr val="cc3300"/>
                </a:solidFill>
                <a:latin typeface="Book Antiqua"/>
              </a:rPr>
              <a:t>difu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248520" y="1828800"/>
                <a:ext cx="15699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011240" y="2590920"/>
                <a:ext cx="4143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4495680" y="2057400"/>
            <a:ext cx="1676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142640" y="2133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557440" y="2819520"/>
                <a:ext cx="31608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2057400" y="175248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85800" y="3657600"/>
                <a:ext cx="53499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ΔyΔzΔ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ΔyΔz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ΔyΔzΔ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1" name=""/>
          <p:cNvGrpSpPr/>
          <p:nvPr/>
        </p:nvGrpSpPr>
        <p:grpSpPr>
          <a:xfrm>
            <a:off x="685800" y="4419720"/>
            <a:ext cx="6543720" cy="1365120"/>
            <a:chOff x="685800" y="4419720"/>
            <a:chExt cx="6543720" cy="1365120"/>
          </a:xfrm>
        </p:grpSpPr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685800" y="4495680"/>
                  <a:ext cx="198432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  <m:r>
                                <m:t xml:space="preserve">,</m:t>
                              </m:r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4191120" y="4419720"/>
                  <a:ext cx="3038400" cy="13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∂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f>
                            <m:num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e>
                        <m:e>
                          <m:f>
                            <m:num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t</m:t>
                              </m:r>
                            </m:den>
                          </m:f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∂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f>
                            <m:num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4" name=""/>
            <p:cNvSpPr/>
            <p:nvPr/>
          </p:nvSpPr>
          <p:spPr>
            <a:xfrm>
              <a:off x="2971800" y="4876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09480" y="914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Sólo hay flujo en la dirección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52480" y="1447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Book Antiqua"/>
              </a:rPr>
              <a:t>Balance a componente caso gene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438280" y="2201760"/>
                <a:ext cx="41958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200400" y="3352680"/>
                <a:ext cx="18176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420840"/>
            <a:ext cx="72626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5800" y="52380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" y="52380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398520"/>
            <a:ext cx="77724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9480" y="450720"/>
            <a:ext cx="754380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738360" y="1654200"/>
                <a:ext cx="76485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ρU</m:t>
                    </m:r>
                    <m:r>
                      <m:t xml:space="preserve">+</m:t>
                    </m:r>
                    <m:r>
                      <m:t xml:space="preserve">ρ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ρU</m:t>
                            </m:r>
                            <m:r>
                              <m:t xml:space="preserve">+</m:t>
                            </m:r>
                            <m:r>
                              <m:t xml:space="preserve">ρ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 rot="19667400">
            <a:off x="490320" y="241596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En. inte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9667400">
            <a:off x="1099080" y="2558520"/>
            <a:ext cx="11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En. ciné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9667400">
            <a:off x="2623680" y="256824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En. inte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9667400">
            <a:off x="3236040" y="2567880"/>
            <a:ext cx="11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En. ciné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9667400">
            <a:off x="4227120" y="2565000"/>
            <a:ext cx="112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Cond. c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9667400">
            <a:off x="4993200" y="249156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Grav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9667400">
            <a:off x="5904360" y="254448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Trabajo P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9667400">
            <a:off x="7202520" y="2361960"/>
            <a:ext cx="147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Trabajo visco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Rev. e irre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0666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Sólo hay flujo en la dirección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2960" y="25884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33"/>
                </a:solidFill>
                <a:latin typeface="Book Antiqua"/>
              </a:rPr>
              <a:t>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33520" y="3352680"/>
            <a:ext cx="8140680" cy="2406960"/>
            <a:chOff x="533520" y="3352680"/>
            <a:chExt cx="8140680" cy="2406960"/>
          </a:xfrm>
        </p:grpSpPr>
        <p:sp>
          <p:nvSpPr>
            <p:cNvPr id="166" name=""/>
            <p:cNvSpPr/>
            <p:nvPr/>
          </p:nvSpPr>
          <p:spPr>
            <a:xfrm>
              <a:off x="533520" y="3733920"/>
              <a:ext cx="25905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ook Antiqua"/>
                </a:rPr>
                <a:t>Desprecia la energía ciné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ook Antiqua"/>
                </a:rPr>
                <a:t>No hay término de grave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ook Antiqua"/>
                </a:rPr>
                <a:t>No hay trabajo visco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480" y="335268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Book Antiqua"/>
                </a:rPr>
                <a:t>SUPOS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3505320" y="3657600"/>
                  <a:ext cx="5168880" cy="64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ρU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∂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ρU</m:t>
                          </m:r>
                        </m:e>
                      </m:d>
                      <m:r>
                        <m:t xml:space="preserve">−</m:t>
                      </m:r>
                      <m:f>
                        <m:num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∂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x</m:t>
                          </m:r>
                        </m:sub>
                      </m:sSub>
                      <m:f>
                        <m:num>
                          <m:r>
                            <m:t xml:space="preserve">∂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6705720" y="4572000"/>
                  <a:ext cx="1220760" cy="64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λ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4267080" y="464832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ook Antiqua"/>
                </a:rPr>
                <a:t>Conducción c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304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Book Antiqua"/>
              </a:rPr>
              <a:t>LÍQU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143000"/>
            <a:ext cx="3429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Energía interna = entalpía (U=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No hay trabajo P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Flujo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Gradientes de velocidad desprec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114800" y="1676520"/>
                <a:ext cx="22748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λ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165320" y="4092480"/>
                <a:ext cx="64897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ρU</m:t>
                    </m:r>
                    <m:r>
                      <m:t xml:space="preserve">+</m:t>
                    </m:r>
                    <m:r>
                      <m:t xml:space="preserve">ρ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ρU</m:t>
                            </m:r>
                            <m:r>
                              <m:t xml:space="preserve">+</m:t>
                            </m:r>
                            <m:r>
                              <m:t xml:space="preserve">ρ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vg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(</m:t>
                    </m:r>
                    <m:r>
                      <m:t xml:space="preserve">τ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 rot="19667400">
            <a:off x="337680" y="485424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En. inte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9667400">
            <a:off x="946800" y="4997160"/>
            <a:ext cx="11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En. ciné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9667400">
            <a:off x="2471400" y="500652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En. inte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9667400">
            <a:off x="3083400" y="5006520"/>
            <a:ext cx="11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En. ciné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9667400">
            <a:off x="4074840" y="5003280"/>
            <a:ext cx="112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Cond. c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9667400">
            <a:off x="4840200" y="493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Grav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9667400">
            <a:off x="5751720" y="498276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Trabajo P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9667400">
            <a:off x="7049880" y="4800240"/>
            <a:ext cx="147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Trabajo visco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Rev. e irre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4080" y="3581280"/>
            <a:ext cx="36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Book Antiqua"/>
              </a:rPr>
              <a:t>Balance general 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8380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Book Antiqua"/>
              </a:rPr>
              <a:t>SUPOS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971800" y="1371600"/>
                <a:ext cx="3265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ρ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vv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τ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ρ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762120" y="3200400"/>
            <a:ext cx="2514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Fluido Newton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Densidad y viscosidad cons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809880" y="3505320"/>
                <a:ext cx="3265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vv</m:t>
                    </m:r>
                    <m:r>
                      <m:t xml:space="preserve">+</m:t>
                    </m:r>
                    <m:r>
                      <m:t xml:space="preserve">μ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ρ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219600" y="45720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33"/>
                </a:solidFill>
                <a:latin typeface="Book Antiqua"/>
              </a:rPr>
              <a:t>Balance de mo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44956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Ecuación de Navier-Sto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2743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Book Antiqua"/>
              </a:rPr>
              <a:t>SUPOS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724280" y="2971800"/>
                <a:ext cx="10350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∇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876920" y="2438280"/>
            <a:ext cx="3749400" cy="1618560"/>
          </a:xfrm>
          <a:prstGeom prst="rect">
            <a:avLst/>
          </a:prstGeom>
          <a:solidFill>
            <a:srgbClr val="fe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Times New Roman"/>
              </a:rPr>
              <a:t>Agrupado:</a:t>
            </a:r>
            <a:r>
              <a:rPr b="0" lang="es-ES" sz="2000" spc="-1" strike="noStrike">
                <a:solidFill>
                  <a:srgbClr val="808080"/>
                </a:solidFill>
                <a:latin typeface="Times New Roman"/>
              </a:rPr>
              <a:t> Considera que todas las fuerzas están aplicadas en el centro de gravedad y que el sistema se puede “reducir” a dicho punto. No se considera el espa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066680"/>
            <a:ext cx="3749760" cy="1618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istribuido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Se considera el </a:t>
            </a:r>
            <a:r>
              <a:rPr b="1" lang="es-ES" sz="2000" spc="-1" strike="noStrike">
                <a:solidFill>
                  <a:srgbClr val="990033"/>
                </a:solidFill>
                <a:latin typeface="Times New Roman"/>
              </a:rPr>
              <a:t>espaci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y por tanto el sistema hay que analizarlo descomponiéndolo en elementos. Está distribuido en el espa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2120" y="304920"/>
            <a:ext cx="33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Book Antiqua"/>
              </a:rPr>
              <a:t>Distribuido vs. Agrup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87320" y="42670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Book Antiqua"/>
              </a:rPr>
              <a:t>Hay descripción espa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90400" y="4876920"/>
            <a:ext cx="6262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cuaciones que resulta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Book Antiqu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Book Antiqu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Book Antiqu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stacionarios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inám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Book Antiqua"/>
                <a:ea typeface="Times New Roman"/>
              </a:rPr>
              <a:t>Agrupados</a:t>
            </a:r>
            <a:r>
              <a:rPr b="0" lang="en-US" sz="1600" spc="-1" strike="noStrike">
                <a:solidFill>
                  <a:srgbClr val="99ccff"/>
                </a:solidFill>
                <a:latin typeface="Book Antiqu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99ccff"/>
                </a:solidFill>
                <a:latin typeface="Book Antiqu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99ccff"/>
                </a:solidFill>
                <a:latin typeface="Book Antiqua"/>
                <a:ea typeface="Times New Roman"/>
              </a:rPr>
              <a:t>AE</a:t>
            </a:r>
            <a:r>
              <a:rPr b="0" lang="en-US" sz="1600" spc="-1" strike="noStrike">
                <a:solidFill>
                  <a:srgbClr val="99ccff"/>
                </a:solidFill>
                <a:latin typeface="Book Antiqu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99ccff"/>
                </a:solidFill>
                <a:latin typeface="Book Antiqu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99ccff"/>
                </a:solidFill>
                <a:latin typeface="Book Antiqua"/>
                <a:ea typeface="Times New Roman"/>
              </a:rPr>
              <a:t>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Book Antiqua"/>
                <a:ea typeface="Times New Roman"/>
              </a:rPr>
              <a:t>Distribuidos</a:t>
            </a:r>
            <a:r>
              <a:rPr b="0" lang="en-US" sz="1600" spc="-1" strike="noStrike">
                <a:solidFill>
                  <a:srgbClr val="003399"/>
                </a:solidFill>
                <a:latin typeface="Book Antiqu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Book Antiqu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Book Antiqua"/>
                <a:ea typeface="Times New Roman"/>
              </a:rPr>
              <a:t>PDE Eliptica</a:t>
            </a:r>
            <a:r>
              <a:rPr b="0" lang="en-US" sz="1600" spc="-1" strike="noStrike">
                <a:solidFill>
                  <a:srgbClr val="003399"/>
                </a:solidFill>
                <a:latin typeface="Book Antiqu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Book Antiqua"/>
                <a:ea typeface="Times New Roman"/>
              </a:rPr>
              <a:t>PDE Parabó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600" y="9144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00"/>
                </a:solidFill>
                <a:latin typeface="Book Antiqua"/>
              </a:rPr>
              <a:t>CLASIFICACIÓN DE LOS SISTEMAS DISTRIBU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2575080"/>
            <a:ext cx="5018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676520" y="1905120"/>
                <a:ext cx="55562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685800" y="3581280"/>
            <a:ext cx="7086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bóli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bóli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caso de estado estacionario (no hay dependencia con el tiempo), la solución toma la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íp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14479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Forma genérica de las ecuaciones de conserv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2819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En función de los valores de D y v tenemos que las soluciones son de dos tipos difer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209680" y="3581280"/>
                <a:ext cx="70956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209680" y="3886200"/>
                <a:ext cx="13510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v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152280" y="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00"/>
                </a:solidFill>
                <a:latin typeface="Benguiat Bk BT"/>
              </a:rPr>
              <a:t>3. Resolución de SPD </a:t>
            </a:r>
            <a:r>
              <a:rPr b="0" lang="es-ES" sz="2000" spc="-1" strike="noStrike">
                <a:solidFill>
                  <a:srgbClr val="990000"/>
                </a:solidFill>
                <a:latin typeface="Benguiat Bk BT"/>
              </a:rPr>
              <a:t>(Sist. Param. Distrib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8600" y="3808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00"/>
                </a:solidFill>
                <a:latin typeface="Book Antiqua"/>
              </a:rPr>
              <a:t>CONDICIONES INICIALES Y DE CON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5600" y="11397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Book Antiqua"/>
              </a:rPr>
              <a:t>Condiciones de conto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90512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Son valores de la función a resolver en las fronteras del sistema considerado. Pueden ser función del tiempo. Hay 3 tipos principa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3124080"/>
            <a:ext cx="4648320" cy="21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Dirich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Neu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Robb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057400" y="3124080"/>
                <a:ext cx="1832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∀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191120" y="3124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Se conoce el valor de la función en el conto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054160" y="3809880"/>
                <a:ext cx="19922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∀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4267080" y="40068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Se conoce el valor de la derivada según la normal del conto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057400" y="4724280"/>
                <a:ext cx="43959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∀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4120" y="54864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En todos los puntos del sistema consi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4876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Condición mix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3520" y="1447920"/>
            <a:ext cx="7162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Dirichlet. Concentración en el contorno C(0,t)=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Neumann. Flujo en el conto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191120" y="1828800"/>
                <a:ext cx="15332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30080" y="8859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46000" y="2743200"/>
            <a:ext cx="75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Book Antiqua"/>
              </a:rPr>
              <a:t>El número de condiciones de contorno en una dirección es igual al o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Book Antiqua"/>
              </a:rPr>
              <a:t>del operador de derivada parcial en esa dire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5840" y="365760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Book Antiqua"/>
              </a:rPr>
              <a:t>Condiciones ini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43434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Valores de las variables en el instante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657600" y="4952880"/>
                <a:ext cx="15796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p>
                          <m:e>
                            <m:r>
                              <m:t xml:space="preserve">A</m:t>
                            </m:r>
                          </m:e>
                          <m:sup/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5800" y="52380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5800" y="52380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8600" y="3808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00"/>
                </a:solidFill>
                <a:latin typeface="Book Antiqua"/>
              </a:rPr>
              <a:t>MÉTODOS DE RESOLU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7240" y="1143000"/>
            <a:ext cx="399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Método de las diferencias fin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Método de las lí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Método de la colocación ortog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2209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La aplicación de uno u otro método a un problema dado convierte el sistema de ecuaciones en derivadas parciales en un nuevo sist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304812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Book Antiqua"/>
              </a:rPr>
              <a:t>Sistema de ecuaciones algebraicas (lineales o no lineales) cu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Se aplica método de diferencias finitas a PDEs elípticas o paraból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Se aplica el método de colocación ortogonal a PDEs elípticas y problemas de contorno en estad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4724280"/>
            <a:ext cx="784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Book Antiqua"/>
              </a:rPr>
              <a:t>Sistema de ecuaciones diferenciales algebraicas cu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Se aplica el método de las líneas a PDEs paraból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Se aplica el método de colocación ortogonal a PDEs paraból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0120" y="228600"/>
            <a:ext cx="43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00"/>
                </a:solidFill>
                <a:latin typeface="Book Antiqua"/>
              </a:rPr>
              <a:t>Método de las diferencias fin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2800" y="719280"/>
            <a:ext cx="68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Reemplaza las derivadas por una aproximación de diferen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Se convierte a un sistema de ecuaciones algebra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585800"/>
            <a:ext cx="81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Se divide el sistema a modelar según una malla y la resolución del sistema de ecuaciones algebraicas da la solución en cada punto de la ma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23479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La aproximación se puede realizar usando el desarrollo en serie de Taylor (da lugar a un método explícito-forward- e implicito –backward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752480" y="2881440"/>
                <a:ext cx="512784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…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819520" y="4329000"/>
                <a:ext cx="343368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Ο</m:t>
                        </m:r>
                        <m:r>
                          <m:t xml:space="preserve">(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Ο</m:t>
                        </m:r>
                        <m:r>
                          <m:t xml:space="preserve">(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6553080" y="45576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Forward 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5181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Backward 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7680" y="5610240"/>
            <a:ext cx="83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Otros métodos </a:t>
            </a:r>
            <a:r>
              <a:rPr b="0" lang="es-ES" sz="1800" spc="-1" strike="noStrike">
                <a:solidFill>
                  <a:srgbClr val="3333cc"/>
                </a:solidFill>
                <a:latin typeface="Book Antiqua"/>
              </a:rPr>
              <a:t>implícitos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 y más estables y robustos son: </a:t>
            </a:r>
            <a:r>
              <a:rPr b="0" i="1" lang="es-ES" sz="1800" spc="-1" strike="noStrike">
                <a:solidFill>
                  <a:srgbClr val="000000"/>
                </a:solidFill>
                <a:latin typeface="Book Antiqua"/>
              </a:rPr>
              <a:t>Crank-Nicholson y Alternating Direction Implicit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7440" y="609480"/>
            <a:ext cx="27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00"/>
                </a:solidFill>
                <a:latin typeface="Book Antiqua"/>
              </a:rPr>
              <a:t>Método de las lín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13716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Es similar al método de las diferencias finitas pero en este caso no se discretiza la variable tiempo, por lo que se obtiene un sistema de ecuaciones diferenciales ordinarias (ODE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7000" y="2879640"/>
            <a:ext cx="42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00"/>
                </a:solidFill>
                <a:latin typeface="Book Antiqua"/>
              </a:rPr>
              <a:t>Método de colocación orto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3505320"/>
            <a:ext cx="60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Se sustituyen polinomios ortogonales en las ecuaciones del sistema, siendo los puntos de colocación de los mismos sus raíces. Es el más complejo conceptualmente pero es un método muy robusto y que se puede aplicar a todo tipo de PDEs, siendo su implementación relativamente sencil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98560" y="141912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Book Antiqua"/>
              </a:rPr>
              <a:t>Se basan en los principios físicos que indican que </a:t>
            </a:r>
            <a:r>
              <a:rPr b="1" i="1" lang="es-ES" sz="1800" spc="-1" strike="noStrike">
                <a:solidFill>
                  <a:srgbClr val="000000"/>
                </a:solidFill>
                <a:latin typeface="Book Antiqua"/>
              </a:rPr>
              <a:t>la masa, la energía y el momento</a:t>
            </a:r>
            <a:r>
              <a:rPr b="0" i="1" lang="es-ES" sz="1800" spc="-1" strike="noStrike">
                <a:solidFill>
                  <a:srgbClr val="000000"/>
                </a:solidFill>
                <a:latin typeface="Book Antiqua"/>
              </a:rPr>
              <a:t> no pueden ser ni creados ni destruidos sino solo transform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74880" y="2638440"/>
            <a:ext cx="6492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Se establecen sobre una región de interés (con un volumen y una superficie asociada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Esta región se suele denominar </a:t>
            </a:r>
            <a:r>
              <a:rPr b="1" lang="es-ES" sz="2000" spc="-1" strike="noStrike">
                <a:solidFill>
                  <a:srgbClr val="3333cc"/>
                </a:solidFill>
                <a:latin typeface="Book Antiqua"/>
              </a:rPr>
              <a:t>volumen de contr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9720" y="4114800"/>
            <a:ext cx="60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Los volúmenes de control muchas veces se establec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Los volúmenes físicos de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Las diferentes fases presentes en un equi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0"/>
            <a:ext cx="72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00"/>
                </a:solidFill>
                <a:latin typeface="Benguiat Bk BT"/>
              </a:rPr>
              <a:t>2. Principios de conserv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 rot="5384400">
            <a:off x="6629040" y="5562360"/>
            <a:ext cx="12952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29400" y="5562720"/>
            <a:ext cx="1371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25146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SzPct val="1599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Book Antiqua"/>
              </a:rPr>
              <a:t>Coordenadas rectangulares.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 Las más comunes, son en las direcciones x,y,z.</a:t>
            </a:r>
            <a:endParaRPr b="0" lang="en-US" sz="1800" spc="-1" strike="noStrike">
              <a:solidFill>
                <a:srgbClr val="cc0000"/>
              </a:solidFill>
              <a:latin typeface="Book Antiqu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Book Antiqu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Book Antiqua"/>
            </a:endParaRPr>
          </a:p>
          <a:p>
            <a:pPr marL="332640" indent="-332640"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Book Antiqua"/>
              </a:rPr>
              <a:t>Coordenadas cilíndricas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. Las tres dimensiones son el radio, el ángulo y la altura (r,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,z) .</a:t>
            </a:r>
            <a:endParaRPr b="0" lang="en-US" sz="1800" spc="-1" strike="noStrike">
              <a:solidFill>
                <a:srgbClr val="cc0000"/>
              </a:solidFill>
              <a:latin typeface="Book Antiqu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Book Antiqu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Book Antiqua"/>
            </a:endParaRPr>
          </a:p>
          <a:p>
            <a:pPr marL="332640" indent="-332640"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Book Antiqua"/>
              </a:rPr>
              <a:t>Coordenadas esféricas.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 En este caso las dimensiones son dos ángulos y un radio (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,r). </a:t>
            </a:r>
            <a:endParaRPr b="0" lang="en-US" sz="1800" spc="-1" strike="noStrike">
              <a:solidFill>
                <a:srgbClr val="cc0000"/>
              </a:solidFill>
              <a:latin typeface="Book Antiqu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59" name=""/>
          <p:cNvSpPr/>
          <p:nvPr/>
        </p:nvSpPr>
        <p:spPr>
          <a:xfrm>
            <a:off x="593640" y="1114560"/>
            <a:ext cx="73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En el modelado de los sistemas agrupados la elección del sistema de coordenadas es importante, normalmente se realizará en función de la geometriía del sistema a modelar. Los tres sistemas principale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858000" y="25905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4648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248520" y="41148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434340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0"/>
                </a:moveTo>
                <a:cubicBezTo>
                  <a:pt x="56" y="8"/>
                  <a:pt x="112" y="16"/>
                  <a:pt x="144" y="48"/>
                </a:cubicBezTo>
                <a:cubicBezTo>
                  <a:pt x="176" y="80"/>
                  <a:pt x="184" y="136"/>
                  <a:pt x="192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07520" y="4343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403848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72388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43560" y="3429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62920" y="3505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7760" y="2362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760" y="30481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98000" y="25146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5029200"/>
            <a:ext cx="13716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388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238880" y="5638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54864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238880" y="5257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17000" y="533412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15560" y="5105520"/>
            <a:ext cx="24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Book Antiqu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5181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640" y="304920"/>
            <a:ext cx="33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Book Antiqua"/>
              </a:rPr>
              <a:t>Sistemas de coorde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balance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7010280" cy="3505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43000" y="5257800"/>
            <a:ext cx="1676520" cy="10666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533520"/>
            <a:ext cx="731520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l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alance dinámico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sobre el sistema, </a:t>
            </a:r>
            <a:r>
              <a:rPr b="1" lang="en-US" sz="18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BALANCE MICROSCÓPICO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ambio neto  = Entra por  - Sale por  + Generación –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n el tiempo       la frontera   la frontera   neta                n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ste balance se aplica a: </a:t>
            </a:r>
            <a:r>
              <a:rPr b="1" lang="en-US" sz="1800" spc="-1" strike="noStrike">
                <a:solidFill>
                  <a:srgbClr val="00cc99"/>
                </a:solidFill>
                <a:latin typeface="Book Antiqua"/>
                <a:ea typeface="Times New Roman"/>
              </a:rPr>
              <a:t>Masa, energía y mo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5257800"/>
            <a:ext cx="1676160" cy="10666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88000" y="5486400"/>
            <a:ext cx="68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grupados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ES" sz="1800" spc="-1" strike="noStrike">
                <a:solidFill>
                  <a:srgbClr val="3366cc"/>
                </a:solidFill>
                <a:latin typeface="Book Antiqua"/>
              </a:rPr>
              <a:t>Diná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Book Antiqua"/>
              </a:rPr>
              <a:t>Distribuidos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ES" sz="1800" spc="-1" strike="noStrike">
                <a:solidFill>
                  <a:srgbClr val="3366cc"/>
                </a:solidFill>
                <a:latin typeface="Book Antiqua"/>
              </a:rPr>
              <a:t>Está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87400" y="556272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ook Antiqua"/>
              </a:rPr>
              <a:t>Modelos macroscópicos (OD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ook Antiqua"/>
              </a:rPr>
              <a:t>Modelos microscópicos (PD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5715000"/>
            <a:ext cx="304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59436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638680" y="5790960"/>
            <a:ext cx="83844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715000"/>
            <a:ext cx="762120" cy="763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04280" y="885960"/>
            <a:ext cx="686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El sistema se descompone en </a:t>
            </a:r>
            <a:r>
              <a:rPr b="1" lang="es-ES" sz="1800" spc="-1" strike="noStrike">
                <a:solidFill>
                  <a:srgbClr val="cc3300"/>
                </a:solidFill>
                <a:latin typeface="Book Antiqua"/>
              </a:rPr>
              <a:t>elementos finitos de volumen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(diferentes según el sistema de coordenadas elegi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En caso de coordenadas rectangula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733920" y="2438280"/>
            <a:ext cx="2743200" cy="1755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081440" y="2971800"/>
            <a:ext cx="25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Elemento de volum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x,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y,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1160" y="4495680"/>
            <a:ext cx="77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Book Antiqua"/>
              </a:rPr>
              <a:t>El flujo de la cantidad a conservar puede ser en una,dos o tres dire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22860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Book Antiqua"/>
                <a:ea typeface="Times New Roman"/>
              </a:rPr>
              <a:t>Fenómenos de transferencia (recordatorio tema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400" y="1076400"/>
            <a:ext cx="55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Book Antiqua"/>
              </a:rPr>
              <a:t>Transporte molecular (fenómenos microscópic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4120" y="3743280"/>
            <a:ext cx="7288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Book Antiqua"/>
              </a:rPr>
              <a:t>Transporte global (fenómenos macroscópic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00"/>
                </a:solidFill>
                <a:latin typeface="Book Antiqua"/>
              </a:rPr>
              <a:t>Cantidad</a:t>
            </a:r>
            <a:r>
              <a:rPr b="0" lang="es-ES" sz="1800" spc="-1" strike="noStrike">
                <a:solidFill>
                  <a:srgbClr val="0099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9900"/>
                </a:solidFill>
                <a:latin typeface="Book Antiqua"/>
              </a:rPr>
              <a:t>Calor</a:t>
            </a:r>
            <a:r>
              <a:rPr b="0" lang="es-ES" sz="1800" spc="-1" strike="noStrike">
                <a:solidFill>
                  <a:srgbClr val="0099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99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9900"/>
                </a:solidFill>
                <a:latin typeface="Book Antiqua"/>
              </a:rPr>
              <a:t>Masa</a:t>
            </a:r>
            <a:r>
              <a:rPr b="0" lang="es-ES" sz="1800" spc="-1" strike="noStrike">
                <a:solidFill>
                  <a:srgbClr val="0099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99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9900"/>
                </a:solidFill>
                <a:latin typeface="Book Antiqua"/>
              </a:rPr>
              <a:t>Mo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Flujo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q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Fuerza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Propiedad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Trans. Calor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 Trans. Masa 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Fri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 k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L 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Relación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q= 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T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T  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 N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A= 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A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A 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(factor fric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447920"/>
            <a:ext cx="7026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00"/>
                </a:solidFill>
                <a:latin typeface="Book Antiqua"/>
              </a:rPr>
              <a:t>Cantidad</a:t>
            </a:r>
            <a:r>
              <a:rPr b="0" lang="es-ES" sz="1800" spc="-1" strike="noStrike">
                <a:solidFill>
                  <a:srgbClr val="0099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9900"/>
                </a:solidFill>
                <a:latin typeface="Book Antiqua"/>
              </a:rPr>
              <a:t>Calor</a:t>
            </a:r>
            <a:r>
              <a:rPr b="0" lang="es-ES" sz="1800" spc="-1" strike="noStrike">
                <a:solidFill>
                  <a:srgbClr val="0099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99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9900"/>
                </a:solidFill>
                <a:latin typeface="Book Antiqua"/>
              </a:rPr>
              <a:t>Masa</a:t>
            </a:r>
            <a:r>
              <a:rPr b="0" lang="es-ES" sz="1800" spc="-1" strike="noStrike">
                <a:solidFill>
                  <a:srgbClr val="0099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99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9900"/>
                </a:solidFill>
                <a:latin typeface="Book Antiqua"/>
              </a:rPr>
              <a:t>Mo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Flujo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q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Fuerza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T/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z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z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z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Propiedad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Conductividad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Difusividad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Visc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k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Ley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Fourier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Fick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New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Relación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q= k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T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T/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z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 N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A= 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z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Z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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Book Antiqua"/>
              </a:rPr>
              <a:t>z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0360" y="25884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33"/>
                </a:solidFill>
                <a:latin typeface="Book Antiqua"/>
              </a:rPr>
              <a:t>Balance de ma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2743200" cy="1755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09480" y="838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Book Antiqua"/>
              </a:rPr>
              <a:t>Balance 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952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Sólo hay flujo en la dirección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676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Elemento de volumen: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x,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y,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06440" y="2305080"/>
                <a:ext cx="14479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ρΔxΔyΔ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57200" y="3200400"/>
                <a:ext cx="13446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Δz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ρυ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97000" y="3819600"/>
                <a:ext cx="17175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Δz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ρυ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981080" y="2438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Acum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3200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En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3809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789360" y="3048120"/>
            <a:ext cx="4862520" cy="3155760"/>
            <a:chOff x="3789360" y="3048120"/>
            <a:chExt cx="4862520" cy="3155760"/>
          </a:xfrm>
        </p:grpSpPr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3859200" y="3048120"/>
                  <a:ext cx="165420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ρΔxΔyΔ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5383080" y="3200400"/>
                  <a:ext cx="155268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yΔz</m:t>
                      </m:r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ρυ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)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6934320" y="3200400"/>
                  <a:ext cx="171756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yΔz</m:t>
                      </m:r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ρυ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)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Δx</m:t>
                          </m:r>
                          <m:r>
                            <m:t xml:space="preserve">)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3789360" y="3962520"/>
                  <a:ext cx="169560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xΔyΔz</m:t>
                      </m:r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5486400" y="4114800"/>
              <a:ext cx="2523960" cy="3938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4289400" y="4724280"/>
                  <a:ext cx="889200" cy="64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5257800" y="4724280"/>
                  <a:ext cx="2049480" cy="68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ρυ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ρυ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Δx</m:t>
                              </m:r>
                              <m:r>
                                <m:t xml:space="preserve">)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Δ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5105520" y="5562720"/>
                  <a:ext cx="155232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ρυ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8380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Book Antiqua"/>
              </a:rPr>
              <a:t>Balance global caso general flujo en 3 dimen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447920" y="1447920"/>
                <a:ext cx="351468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ρυ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ρυ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ρυ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4" name=""/>
          <p:cNvGrpSpPr/>
          <p:nvPr/>
        </p:nvGrpSpPr>
        <p:grpSpPr>
          <a:xfrm>
            <a:off x="2209680" y="3733920"/>
            <a:ext cx="3962520" cy="1706400"/>
            <a:chOff x="2209680" y="3733920"/>
            <a:chExt cx="3962520" cy="1706400"/>
          </a:xfrm>
        </p:grpSpPr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2209680" y="4572000"/>
                  <a:ext cx="215136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∂</m:t>
                              </m:r>
                              <m:r>
                                <m:t xml:space="preserve">ρ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⇒</m:t>
                          </m:r>
                          <m:r>
                            <m:t xml:space="preserve">−</m:t>
                          </m:r>
                          <m:r>
                            <m:t xml:space="preserve">∇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ρv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∇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6" name=""/>
            <p:cNvSpPr/>
            <p:nvPr/>
          </p:nvSpPr>
          <p:spPr>
            <a:xfrm>
              <a:off x="2895480" y="37339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00400" y="388620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ook Antiqua"/>
                </a:rPr>
                <a:t>Fluidos incompresi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600200" y="2362320"/>
            <a:ext cx="4392720" cy="1195200"/>
            <a:chOff x="1600200" y="2362320"/>
            <a:chExt cx="4392720" cy="1195200"/>
          </a:xfrm>
        </p:grpSpPr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2362320" y="2971800"/>
                  <a:ext cx="1377720" cy="58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ρ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0" name=""/>
            <p:cNvSpPr/>
            <p:nvPr/>
          </p:nvSpPr>
          <p:spPr>
            <a:xfrm>
              <a:off x="1600200" y="236232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3300"/>
                  </a:solidFill>
                  <a:latin typeface="Book Antiqua"/>
                </a:rPr>
                <a:t>Ecuación de continu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4086360" y="3200400"/>
                  <a:ext cx="1906560" cy="30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∇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operador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nabl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2:21:51Z</dcterms:created>
  <dc:creator>Manuel Rodriguez</dc:creator>
  <dc:description/>
  <dc:language>en-US</dc:language>
  <cp:lastModifiedBy>Manuel Rodriguez</cp:lastModifiedBy>
  <dcterms:modified xsi:type="dcterms:W3CDTF">2004-01-08T10:32:42Z</dcterms:modified>
  <cp:revision>138</cp:revision>
  <dc:subject/>
  <dc:title>Presentación de PowerPoint</dc:title>
</cp:coreProperties>
</file>