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695-64D3-4F8A-A320-486A1BE5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AEF-69B4-4FD3-93F9-6C0069F1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260-BC31-4931-8B75-1F706C29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29E-50EF-4813-B691-C108E0E0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69A-1AA7-4452-AE81-B92784C7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437-D453-49F9-B9C9-A32D19E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B11-CBB5-4BAA-8CA3-BA0127F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3B6-69B8-4B45-B1EB-7948D8E9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787-7962-405C-B84E-2ADFE149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055-D87A-48B1-8ED3-2F75489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8CE-E5F2-4062-97EA-589B1E5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2E4-27D4-4822-9312-3FB7750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8A0-92AC-4DE4-9B25-BD9642114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8040" y="6508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a 10. Ab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70680" y="1919160"/>
            <a:ext cx="553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1. Fundamentos y equi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2. Pérdidas de carga  y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3. Mecanismo de la ab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6560" y="2743200"/>
            <a:ext cx="640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los fundamentos de la ab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los principales equipos de la ab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ocer el mecanismo que gobierna el fenómeno de la ab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3640" y="17175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27080" y="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92880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1. Absorción: Introducción y equi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7960" y="1638360"/>
            <a:ext cx="682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ción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nsferencia de materia en la que un gas contenido en una mezc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aseosa pasa a un líquido que actúa como disolv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2971800"/>
            <a:ext cx="262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 realizar la ab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necesita un íntimo conta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e las fases. Este pu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rar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41880" y="2590920"/>
            <a:ext cx="39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Dispersando el líquido en finas películas que s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deadas por el g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44760" y="3276720"/>
            <a:ext cx="36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Dispersando el gas en pequeñas burbujas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raviesan un volumen de líq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43320" y="3962520"/>
            <a:ext cx="36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Dispersando el líquido en pequeñas gotas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ulan a través de un volumen de g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3352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149200">
            <a:off x="2590560" y="297144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4000">
            <a:off x="259092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2600" y="243828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2600" y="312408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2600" y="388620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2590920"/>
            <a:ext cx="15264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3276720"/>
            <a:ext cx="15264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962520"/>
            <a:ext cx="15264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5280" y="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4928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221616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343400" y="685800"/>
            <a:ext cx="148608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98576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15336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705720" y="3657600"/>
            <a:ext cx="173016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880" y="152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ES DE REL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2720" y="1522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ES DE PL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2600" y="1522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RES DE SP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760" y="6134040"/>
            <a:ext cx="85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 más empleadas por: mínima necesidad de estructura, versatilidad, resistencia a corrosión, baja pérdida de carga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exibilidad en la operación y baja inver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348400">
            <a:off x="1637640" y="5981400"/>
            <a:ext cx="1526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2440" y="3886200"/>
            <a:ext cx="1593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cá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mitir 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las cor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rcionar bu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acto entre f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jo co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8920" y="3352680"/>
            <a:ext cx="14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le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25280" y="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640" y="457200"/>
            <a:ext cx="36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3. Mecanismo de la ab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280" y="12193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oría de la doble pel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5029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0224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67280" y="2895480"/>
            <a:ext cx="2088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55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3335400"/>
            <a:ext cx="11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836880"/>
            <a:ext cx="154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02240" y="3335400"/>
            <a:ext cx="38592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87800" y="42768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275160" y="4589640"/>
            <a:ext cx="12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88160" y="4276800"/>
            <a:ext cx="38736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91600" y="3124080"/>
            <a:ext cx="35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9080" y="3657600"/>
            <a:ext cx="30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9000" y="4125960"/>
            <a:ext cx="78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4520" y="2971800"/>
            <a:ext cx="78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3360" y="411480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4800" y="4419720"/>
            <a:ext cx="363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34120" y="45831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9080" y="4038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908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8200" y="312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184400">
            <a:off x="5234040" y="271476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lícula de  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184400">
            <a:off x="5066280" y="438084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lícula de 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51080" y="51166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184400">
            <a:off x="6964560" y="2907000"/>
            <a:ext cx="182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ntración m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l soluto en el 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184400">
            <a:off x="3422160" y="434700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ión par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gas solu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920" y="2971800"/>
            <a:ext cx="2946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a transferencia de materia es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isma en la fase gas y líqui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proceso estacionario) y propor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 los gradientes de presiones y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centr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7840" y="11430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aiche.org/publications/cep/pdf/9907lee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3400" y="1905120"/>
            <a:ext cx="84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afns.ualberta.ca/foodeng/nufs353/lectures/abs-cont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5360" y="42228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Links de interés relacionados con la ab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06:59:07Z</dcterms:created>
  <dc:creator>Manuel Rodriguez</dc:creator>
  <dc:description/>
  <dc:language>en-US</dc:language>
  <cp:lastModifiedBy>Manuel Rodriguez</cp:lastModifiedBy>
  <dcterms:modified xsi:type="dcterms:W3CDTF">2001-11-08T21:02:04Z</dcterms:modified>
  <cp:revision>1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713983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docs\Edu\TQG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