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7282-74AE-445E-BE0C-10F855DD7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91C3-5A32-42E7-9B53-ECC315C2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17CF-BDD9-41AA-B01C-12CBF46F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D241-D53E-45DE-92F6-028AF51A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B63A-AA72-4F45-84D8-7CEBB61F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2A42-B1EC-468D-A60C-2064EB19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C8EE-50DB-4D17-B02E-E9105EBB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70FF-99B4-4E0E-AAA0-E45FF80C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1B78-BCF0-4010-B062-BC875DF5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6027-3E7B-4C52-84D6-143E3D7A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F401-F410-47C1-99A8-C20A4243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C9CA-E60C-4060-9370-94D4EA64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1D7F-93C1-47C4-BC80-29E81E62B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1880" y="803160"/>
            <a:ext cx="59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a 1. Introducción a la Tecnología Quí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97360" y="1870200"/>
            <a:ext cx="5890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finición y anteced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peraciones básicas y reacto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quema de una planta quí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geniería Básica y de Detalle de un proces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lances de masa y de energ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76200" y="1200240"/>
            <a:ext cx="8391600" cy="4457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67080" y="64764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o de fabricación de amonía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12520" y="0"/>
            <a:ext cx="293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troducción a la Tecnología Quím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11160" y="3124080"/>
            <a:ext cx="4432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QUÉ NO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íntesis de proces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trol de proces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ptimización de plan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stimación de cos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studio de procesos industri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odelado y simulación de procesos quím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8000" y="990720"/>
            <a:ext cx="711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É NO SE 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rument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Reactores-cinética quím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ciones: Cristalización, evaporación, condensación, humidificación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mbiadores. Intercambio de cal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12520" y="0"/>
            <a:ext cx="293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troducción a la Tecnología Quím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0760" y="1828800"/>
            <a:ext cx="84942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1. Leer el problema atentam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2. Hacer un diagrama del proce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3. Rotular con símbolos cada corriente y composiciones, tanto datos como incógni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4. Mostrar los valores conocidos de composición y flujo junto a cada corri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alcular composiciones y flujos que se puedan a partir de los datos dad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. Aclarar lo que se desea lograr, lo que se pregu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6. Si se dan mezclados datos en masa y moles unificarlos a una de las dos bas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7. Escoger una base de cálcul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8. Hacer el análisis de los grados de libert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9. Si el sistema está bien formulado, escribir los nombres y ecuaciones de los balances a resolv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10. Resolver el sistema. Calcular las incógnitas pedid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11. Escalar el problema si es necesario por la base de cálculo escogi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12. Analizar los resultados obtenid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67880" y="762120"/>
            <a:ext cx="551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cedimiento general de resolución de bala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 materia para unidades de proce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12520" y="0"/>
            <a:ext cx="293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troducción a la Tecnología Quím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96760" y="647640"/>
            <a:ext cx="75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Grados de libertad=Número de incógnitas-número ecuaciones independ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1280" y="1295280"/>
            <a:ext cx="8317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cuacione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alances de materia: Sin reacción hay tantas independientes como especies molecula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alance de energía: Hay uno por 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specificaciones de proce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piedades físic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stricciones fís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laciones estequiométricas. En caso de reac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12520" y="0"/>
            <a:ext cx="293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troducción a la Tecnología Quím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50360" y="1905120"/>
            <a:ext cx="775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a solución compuesta de 50% de etanol, 10% de metan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40% de agua es alimentada con un caudal de 100kg/h a 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parador que produce una corriente con un caudal de 60kg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una composición de 80% de etanol, 15% de metanol y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sto agu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cular el caudal y la composición de la otra corriente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obtiene del separ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3800" y="91440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OBLEMA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438280" y="990720"/>
            <a:ext cx="12956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1219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33920" y="1219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2362320"/>
            <a:ext cx="1295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2590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9880" y="2590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33880" y="2171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21520" y="2209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1840" y="28195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15120" y="2590920"/>
            <a:ext cx="94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tan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tan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g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5160" y="3048120"/>
            <a:ext cx="94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tan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tan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g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68160" y="2590920"/>
            <a:ext cx="94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tan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tan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g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4572000"/>
            <a:ext cx="1295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00200" y="4800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4800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33160" y="438156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=100kg/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20800" y="441972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=60kg/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00400" y="5257800"/>
            <a:ext cx="83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=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4760" y="4800600"/>
            <a:ext cx="142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tanol 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tanol 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gua 4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3720" y="5562720"/>
            <a:ext cx="136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tanol 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tanol ??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gua 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67440" y="4800600"/>
            <a:ext cx="142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tanol 8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tanol 1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gua 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76920" y="10288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os 1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93120" y="243828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os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68720" y="44956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os 4,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457200"/>
            <a:ext cx="52578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2209680"/>
            <a:ext cx="52578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4191120"/>
            <a:ext cx="5257800" cy="23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462720" y="11448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ROBLEM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69960" y="1943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6080" y="2095560"/>
            <a:ext cx="567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incógnitas: Flujo y las 3 composiciones de la corriente 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2640" y="2590920"/>
            <a:ext cx="54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ecuaciones: 3 balances de masa, uno por componente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 restricción fís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46880" y="1333440"/>
            <a:ext cx="38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o base de cálculo se escoge 1 ho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15000" y="125748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o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30840" y="243828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o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95120" y="38862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 = P + 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18520" y="4267080"/>
            <a:ext cx="2154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,5F = 0,8P + x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tanol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26080" y="4724280"/>
            <a:ext cx="2372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,1F = 0,15P + x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metanol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12040" y="5105520"/>
            <a:ext cx="21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,4F = 0,05P + x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agu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83480" y="472428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o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9920" y="5715000"/>
            <a:ext cx="22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tanol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metanol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agu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080" y="388620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 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080" y="434340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alance etan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4720" y="472428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alance metan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440" y="510552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 ag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571500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a fr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630840" y="45720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o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7720" y="380880"/>
            <a:ext cx="15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es apli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3809880"/>
            <a:ext cx="594360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981080"/>
            <a:ext cx="5867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219320"/>
            <a:ext cx="58676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304920"/>
            <a:ext cx="58676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9440" y="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ROBLEM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37960" y="3200400"/>
            <a:ext cx="473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rados de libertad= 4 - 4 = 0. Bien especific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534960" y="106668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tanol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4600" y="1447920"/>
            <a:ext cx="15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tanol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4600" y="182880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u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2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4960" y="236232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0kg/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44840" y="18288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o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21160" y="33526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os 11,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080" y="3276720"/>
            <a:ext cx="15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es apli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143000"/>
            <a:ext cx="33530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3200400"/>
            <a:ext cx="33530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82920" y="38088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ROBLEM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2133720"/>
            <a:ext cx="2057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213960" y="0"/>
            <a:ext cx="293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troducción a la Tecnología Quím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8560" y="110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46960" y="533520"/>
            <a:ext cx="549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1 Tecnología Química: Definición y anteced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33120" y="3352680"/>
            <a:ext cx="16390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o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i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+ma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segurid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90520" y="3505320"/>
            <a:ext cx="183564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ábricas o pla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 la Indust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080" y="3543480"/>
            <a:ext cx="121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5520" y="2895480"/>
            <a:ext cx="2706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uímica Inorgá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sulfúrico, fosfórico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uímica Orgá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etileno,tolueno, plástic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etro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cerveceras,lacteas,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uímica F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productos farmacológic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extil,pintu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84680" y="2514600"/>
            <a:ext cx="1410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UST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07520" y="6172200"/>
            <a:ext cx="1259640" cy="36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-30%P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715000" y="312408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4038480"/>
            <a:ext cx="45720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715000" y="36576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4038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40384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403848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15000" y="403848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39400" y="1219320"/>
            <a:ext cx="37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bajo independiente de las indust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7720" y="2133720"/>
            <a:ext cx="47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ciones básic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os Quí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tarios. Rea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213372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1523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828800" y="182880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182880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1600200"/>
            <a:ext cx="13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Walker 19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41520" y="1600200"/>
            <a:ext cx="397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ferentes problemas (industrias) mismas solu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647720" y="257040"/>
          <a:ext cx="5848560" cy="634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7720" y="257040"/>
                    <a:ext cx="5848560" cy="634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6212520" y="0"/>
            <a:ext cx="293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troducción a la Tecnología Quím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547560"/>
            <a:ext cx="7696080" cy="5707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212520" y="0"/>
            <a:ext cx="293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troducción a la Tecnología Quím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086880" y="152280"/>
            <a:ext cx="293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troducción a la Tecnología Quím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5280" y="457200"/>
            <a:ext cx="39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2 Operaciones básicas y React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4680" y="3276720"/>
            <a:ext cx="389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Operaciones Bás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peraciones de transformación de or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ísico o fisicoquím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4680" y="2209680"/>
            <a:ext cx="389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ciones de transformación de or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ím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876920" y="762120"/>
            <a:ext cx="1921320" cy="1828800"/>
            <a:chOff x="4876920" y="762120"/>
            <a:chExt cx="1921320" cy="1828800"/>
          </a:xfrm>
        </p:grpSpPr>
        <p:sp>
          <p:nvSpPr>
            <p:cNvPr id="80" name=""/>
            <p:cNvSpPr/>
            <p:nvPr/>
          </p:nvSpPr>
          <p:spPr>
            <a:xfrm>
              <a:off x="5165280" y="876240"/>
              <a:ext cx="16329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ís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Quím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ermodinám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stadíst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temát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6920" y="762120"/>
              <a:ext cx="1904760" cy="182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7241040" y="304812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GENIERÍ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26668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32767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67280" y="2590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0640" y="4724280"/>
            <a:ext cx="8393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ciones de manipulación física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porte y almacenamiento, clasificación, agitación y mezcla,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ciones de separación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dimentación, filtración, centrifugación, ciclones,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ferencia de Energía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cambio térmico, vaporización, generación de vap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ferencia de Materia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tracción sólido-líquido y líquido-líqu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ferencia de Materia y Energía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tilación, absorción, secado, evaporación,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42670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80040" y="37720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43600" y="3809880"/>
            <a:ext cx="144792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6095880" y="327636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086880" y="152280"/>
            <a:ext cx="293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troducción a la Tecnología Quím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4200" y="304920"/>
            <a:ext cx="38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3 Esquema de una planta quím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85800" y="1219320"/>
            <a:ext cx="1219320" cy="1523520"/>
            <a:chOff x="685800" y="1219320"/>
            <a:chExt cx="1219320" cy="1523520"/>
          </a:xfrm>
        </p:grpSpPr>
        <p:sp>
          <p:nvSpPr>
            <p:cNvPr id="94" name=""/>
            <p:cNvSpPr/>
            <p:nvPr/>
          </p:nvSpPr>
          <p:spPr>
            <a:xfrm>
              <a:off x="685800" y="2361960"/>
              <a:ext cx="121932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" y="1447560"/>
              <a:ext cx="1219320" cy="11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5800" y="1219320"/>
              <a:ext cx="1219320" cy="380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5800" y="1447560"/>
              <a:ext cx="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05120" y="1447560"/>
              <a:ext cx="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762120" y="4419720"/>
            <a:ext cx="1218960" cy="1523520"/>
            <a:chOff x="762120" y="4419720"/>
            <a:chExt cx="1218960" cy="1523520"/>
          </a:xfrm>
        </p:grpSpPr>
        <p:sp>
          <p:nvSpPr>
            <p:cNvPr id="100" name=""/>
            <p:cNvSpPr/>
            <p:nvPr/>
          </p:nvSpPr>
          <p:spPr>
            <a:xfrm>
              <a:off x="762120" y="5562360"/>
              <a:ext cx="121896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2120" y="4647960"/>
              <a:ext cx="1218960" cy="11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2120" y="4419720"/>
              <a:ext cx="1218960" cy="380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2120" y="4647960"/>
              <a:ext cx="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81080" y="4647960"/>
              <a:ext cx="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763560" y="1676520"/>
            <a:ext cx="10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macé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e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480" y="4800600"/>
            <a:ext cx="127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macé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rmin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81400" y="1523880"/>
            <a:ext cx="2197080" cy="916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paració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erias pri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Operaciones básic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80680" y="3276720"/>
            <a:ext cx="215424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quí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tarios. (Reacto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8760" y="4800600"/>
            <a:ext cx="2197080" cy="916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aració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Operaciones básic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41200" y="2324160"/>
            <a:ext cx="219240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ios Auxili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por de ag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ua de 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ua de refrig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re comprim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38480" y="403848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2514240" y="480060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2514600" y="190476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251460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019560" y="3657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9920" y="19051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486400" y="1905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410080" y="3657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33376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620120" y="10663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600200" y="10666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106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696080" y="48769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676160" y="61722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676520" y="5943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0771200">
            <a:off x="2437920" y="319968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09680" y="914400"/>
            <a:ext cx="3962520" cy="5410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89880" y="57312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Planta 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80360" y="636264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Unidad de 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57160" y="1076400"/>
            <a:ext cx="7429680" cy="4705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812960" y="58294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ascagoula Refinery U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86880" y="152280"/>
            <a:ext cx="293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troducción a la Tecnología Quím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3760" y="533520"/>
            <a:ext cx="717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4 Desarrollo e implantación de un proceso de fabricación quím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4320" y="1676520"/>
            <a:ext cx="4223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agrama de Proce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agrama de Tuberías e instrumen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specificaciones de equipos e instrumen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mplementación prelimin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anual de Oper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anual de Segur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440" y="3733920"/>
            <a:ext cx="21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geniería de Deta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0560" y="129528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geniería Bás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03720" y="4229280"/>
            <a:ext cx="4269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o de implant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os detallados de equipos y de proce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as de equipos y materi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que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álculo de equipos, estructuras y soportes,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ra de equipos e instrumen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ntaje y construcción de la plan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46920" y="2133720"/>
            <a:ext cx="54612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DISCIPLI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086880" y="152280"/>
            <a:ext cx="293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troducción a la Tecnología Quím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6000" y="533520"/>
            <a:ext cx="36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5 Balances de materia y energ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2720" y="1257480"/>
            <a:ext cx="66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ecuencia de los principios de conservación de la masa y energí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lmente sistemas abiertos y e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égimen estacionari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76320" y="2057400"/>
            <a:ext cx="686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o que entra    +/-    Lo que se produce/consume  =  Lo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3440" y="2819520"/>
            <a:ext cx="7347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istema de N compon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alance de Materia: N ecuaciones. (Se puede realizar en Kmoles/h o en Kg/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 reacción 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 reacción 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ltiun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 reciclo (con y sin reacción quím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 pu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alance de Energía (Entalpía): 1 ecuación (Kcal/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 reacción 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 reacción 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6T09:52:47Z</dcterms:created>
  <dc:creator>Manuel Rodriguez</dc:creator>
  <dc:description/>
  <dc:language>en-US</dc:language>
  <cp:lastModifiedBy>Manuel Rodriguez</cp:lastModifiedBy>
  <dcterms:modified xsi:type="dcterms:W3CDTF">2001-10-01T08:24:40Z</dcterms:modified>
  <cp:revision>76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713983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F:\docs\Edu\TQG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