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B84-797B-4F04-8369-8EC7CEDC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66F-F66E-4B01-BB1A-657E311E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BCB-8AD2-4972-A7A2-AAE45D8B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81B-9A8E-4D43-A7CA-FF3AF8C1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C17-8FED-4B73-9866-744F2613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4A2-6289-412B-A1E9-56D2E186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BD0-A04F-4E0E-81A8-467C153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4EB-72BC-41DC-9D6B-484A3A4C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095-86D3-4EC0-8A65-C7EB4C9F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0B0-B8FF-4FD0-AD5A-4792589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DB5-E0EB-44A5-9B8D-1014784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5B8-7B3A-448C-A248-4FCB94C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E344-902A-48DC-B1E6-CDE3EB4E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9880" y="5335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a 5. Separación sólido - gas y líquido -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8880" y="1870200"/>
            <a:ext cx="37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1. Cámaras de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2. Ci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3. Electrofil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4. Lavadores (“scrubber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5. Filtros para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95600" cy="256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190680" cy="2276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3619440" cy="32385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562720" y="3886200"/>
            <a:ext cx="2695320" cy="1990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4581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19560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080" y="471600"/>
            <a:ext cx="31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.4. Lavadores (“scrubber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1120" y="120492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paración del sólido gas mediante el empleo de un líquido (agu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3920" y="2043000"/>
            <a:ext cx="254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a captación del sóli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 el líquido puede ser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24200" y="17384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cepción in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8600" y="213372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fusión y movimiento Brown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41840" y="2514600"/>
            <a:ext cx="30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cepción sobre la línea de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600" y="42670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62480" y="34909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78680" y="4038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nde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81560" y="45720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re de rel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79040" y="5029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ntu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35812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029200" y="3657600"/>
            <a:ext cx="990720" cy="2286000"/>
            <a:chOff x="5029200" y="3657600"/>
            <a:chExt cx="990720" cy="2286000"/>
          </a:xfrm>
        </p:grpSpPr>
        <p:sp>
          <p:nvSpPr>
            <p:cNvPr id="397" name=""/>
            <p:cNvSpPr/>
            <p:nvPr/>
          </p:nvSpPr>
          <p:spPr>
            <a:xfrm>
              <a:off x="5194080" y="3774600"/>
              <a:ext cx="164880" cy="17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29200" y="3657600"/>
              <a:ext cx="880200" cy="2286000"/>
            </a:xfrm>
            <a:custGeom>
              <a:avLst/>
              <a:gdLst/>
              <a:ahLst/>
              <a:rect l="l" t="t" r="r" b="b"/>
              <a:pathLst>
                <a:path w="768" h="1872">
                  <a:moveTo>
                    <a:pt x="0" y="144"/>
                  </a:moveTo>
                  <a:lnTo>
                    <a:pt x="240" y="48"/>
                  </a:lnTo>
                  <a:lnTo>
                    <a:pt x="240" y="0"/>
                  </a:lnTo>
                  <a:lnTo>
                    <a:pt x="432" y="0"/>
                  </a:lnTo>
                  <a:lnTo>
                    <a:pt x="432" y="48"/>
                  </a:lnTo>
                  <a:lnTo>
                    <a:pt x="672" y="144"/>
                  </a:lnTo>
                  <a:lnTo>
                    <a:pt x="672" y="1152"/>
                  </a:lnTo>
                  <a:lnTo>
                    <a:pt x="768" y="1152"/>
                  </a:lnTo>
                  <a:lnTo>
                    <a:pt x="768" y="1344"/>
                  </a:lnTo>
                  <a:lnTo>
                    <a:pt x="672" y="1344"/>
                  </a:lnTo>
                  <a:lnTo>
                    <a:pt x="672" y="1632"/>
                  </a:lnTo>
                  <a:lnTo>
                    <a:pt x="384" y="1872"/>
                  </a:lnTo>
                  <a:lnTo>
                    <a:pt x="288" y="1872"/>
                  </a:lnTo>
                  <a:lnTo>
                    <a:pt x="0" y="168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29200" y="3891960"/>
              <a:ext cx="77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3950280"/>
              <a:ext cx="77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49160" y="4068000"/>
              <a:ext cx="770760" cy="5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04240" y="4126320"/>
              <a:ext cx="109800" cy="58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96" y="48"/>
                  </a:lnTo>
                  <a:lnTo>
                    <a:pt x="4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69120" y="4126320"/>
              <a:ext cx="109800" cy="58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96" y="48"/>
                  </a:lnTo>
                  <a:lnTo>
                    <a:pt x="4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34360" y="4126320"/>
              <a:ext cx="109800" cy="58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96" y="48"/>
                  </a:lnTo>
                  <a:lnTo>
                    <a:pt x="4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59320" y="4185000"/>
              <a:ext cx="54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303880" y="4185000"/>
              <a:ext cx="55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03880" y="4185000"/>
              <a:ext cx="5508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59320" y="4185000"/>
              <a:ext cx="547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59320" y="41850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468760" y="4185000"/>
              <a:ext cx="5508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24560" y="41850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24560" y="4185000"/>
              <a:ext cx="547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24560" y="4185000"/>
              <a:ext cx="54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468760" y="4185000"/>
              <a:ext cx="55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634000" y="4185000"/>
              <a:ext cx="55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634000" y="4185000"/>
              <a:ext cx="5508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89440" y="41850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89440" y="4185000"/>
              <a:ext cx="547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89440" y="4185000"/>
              <a:ext cx="54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49160" y="4419720"/>
              <a:ext cx="770760" cy="5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04240" y="4478040"/>
              <a:ext cx="109800" cy="58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96" y="48"/>
                  </a:lnTo>
                  <a:lnTo>
                    <a:pt x="4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9120" y="4478040"/>
              <a:ext cx="109800" cy="58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96" y="48"/>
                  </a:lnTo>
                  <a:lnTo>
                    <a:pt x="4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34360" y="4478040"/>
              <a:ext cx="109800" cy="58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96" y="48"/>
                  </a:lnTo>
                  <a:lnTo>
                    <a:pt x="4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59320" y="4536720"/>
              <a:ext cx="54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303880" y="4536720"/>
              <a:ext cx="55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03880" y="4536720"/>
              <a:ext cx="5508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59320" y="4536720"/>
              <a:ext cx="547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59320" y="453672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468760" y="4536720"/>
              <a:ext cx="5508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24560" y="453672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24560" y="4536720"/>
              <a:ext cx="547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24560" y="4536720"/>
              <a:ext cx="54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468760" y="4536720"/>
              <a:ext cx="55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634000" y="4536720"/>
              <a:ext cx="55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634000" y="4536720"/>
              <a:ext cx="5508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9440" y="453672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89440" y="4536720"/>
              <a:ext cx="547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89440" y="4536720"/>
              <a:ext cx="54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4800" y="4858920"/>
              <a:ext cx="14760" cy="3636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3" y="0"/>
                  </a:moveTo>
                  <a:cubicBezTo>
                    <a:pt x="0" y="8"/>
                    <a:pt x="10" y="10"/>
                    <a:pt x="13" y="20"/>
                  </a:cubicBezTo>
                  <a:cubicBezTo>
                    <a:pt x="10" y="28"/>
                    <a:pt x="8" y="25"/>
                    <a:pt x="3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94080" y="4888440"/>
              <a:ext cx="14760" cy="3636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3" y="0"/>
                  </a:moveTo>
                  <a:cubicBezTo>
                    <a:pt x="0" y="8"/>
                    <a:pt x="10" y="10"/>
                    <a:pt x="13" y="20"/>
                  </a:cubicBezTo>
                  <a:cubicBezTo>
                    <a:pt x="10" y="28"/>
                    <a:pt x="8" y="25"/>
                    <a:pt x="3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24760" y="4947120"/>
              <a:ext cx="6840" cy="21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cubicBezTo>
                    <a:pt x="2" y="1"/>
                    <a:pt x="6" y="2"/>
                    <a:pt x="6" y="2"/>
                  </a:cubicBezTo>
                  <a:cubicBezTo>
                    <a:pt x="6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7120" y="5003280"/>
              <a:ext cx="4680" cy="7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3" y="2"/>
                    <a:pt x="0" y="6"/>
                    <a:pt x="0" y="6"/>
                  </a:cubicBezTo>
                  <a:cubicBezTo>
                    <a:pt x="0" y="6"/>
                    <a:pt x="3" y="2"/>
                    <a:pt x="4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4640" y="49957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6912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6912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4040" y="494712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6912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6912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2456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4560" y="5005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49160" y="48884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49160" y="482976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9408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49160" y="48884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49160" y="482976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0424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0424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9280" y="48884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79280" y="482976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2456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79280" y="48884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79280" y="482976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3436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436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39000" y="482976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39000" y="477108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83920" y="482976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39000" y="482976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9000" y="477108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94080" y="482976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94080" y="4888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89440" y="5005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944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34360" y="5005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89440" y="500544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89440" y="4947120"/>
              <a:ext cx="648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44520" y="50054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44520" y="506412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7306400">
              <a:off x="513828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7306400">
              <a:off x="513828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7306400">
              <a:off x="5083560" y="500580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7306400">
              <a:off x="513828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06400">
              <a:off x="513828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7306400">
              <a:off x="519336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7306400">
              <a:off x="5193360" y="5064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7306400">
              <a:off x="5633640" y="4888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7306400">
              <a:off x="5633640" y="483012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7306400">
              <a:off x="5578920" y="488880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7306400">
              <a:off x="5633640" y="4888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7306400">
              <a:off x="5633640" y="483012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7306400">
              <a:off x="5688720" y="4888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7306400">
              <a:off x="568872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7306400">
              <a:off x="5083560" y="488880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7306400">
              <a:off x="5083560" y="483012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7306400">
              <a:off x="5083560" y="488880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7306400">
              <a:off x="5083560" y="483012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7306400">
              <a:off x="5138280" y="4888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7306400">
              <a:off x="513828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7306400">
              <a:off x="552384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7306400">
              <a:off x="552384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7306400">
              <a:off x="546840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7306400">
              <a:off x="552384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7306400">
              <a:off x="552384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7306400">
              <a:off x="5578920" y="500580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7306400">
              <a:off x="5578920" y="506448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7306400">
              <a:off x="530352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7306400">
              <a:off x="530352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7306400">
              <a:off x="5248800" y="500580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7306400">
              <a:off x="530352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7306400">
              <a:off x="5303520" y="4947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7306400">
              <a:off x="5358600" y="5005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7306400">
              <a:off x="5358600" y="506448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7306400">
              <a:off x="5413680" y="483012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7306400">
              <a:off x="5413680" y="477144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7306400">
              <a:off x="5358600" y="483012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7306400">
              <a:off x="5413680" y="483012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7306400">
              <a:off x="5413680" y="4771440"/>
              <a:ext cx="7200" cy="6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7306400">
              <a:off x="5468400" y="483012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7306400">
              <a:off x="5468400" y="4888800"/>
              <a:ext cx="720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2" y="2"/>
                    <a:pt x="6" y="6"/>
                    <a:pt x="6" y="6"/>
                  </a:cubicBezTo>
                  <a:cubicBezTo>
                    <a:pt x="6" y="6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59320" y="4888440"/>
              <a:ext cx="14760" cy="3636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3" y="0"/>
                  </a:moveTo>
                  <a:cubicBezTo>
                    <a:pt x="0" y="8"/>
                    <a:pt x="10" y="10"/>
                    <a:pt x="13" y="20"/>
                  </a:cubicBezTo>
                  <a:cubicBezTo>
                    <a:pt x="10" y="28"/>
                    <a:pt x="8" y="25"/>
                    <a:pt x="3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79280" y="4947120"/>
              <a:ext cx="14760" cy="3636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3" y="0"/>
                  </a:moveTo>
                  <a:cubicBezTo>
                    <a:pt x="0" y="8"/>
                    <a:pt x="10" y="10"/>
                    <a:pt x="13" y="20"/>
                  </a:cubicBezTo>
                  <a:cubicBezTo>
                    <a:pt x="10" y="28"/>
                    <a:pt x="8" y="25"/>
                    <a:pt x="3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7120" y="527184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9600" y="53672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39000" y="5357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83920" y="5298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9000" y="5240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39000" y="529884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94080" y="5298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49160" y="5357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94080" y="535716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37440" y="527184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99560" y="53672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59320" y="5357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04240" y="5298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59320" y="5240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59320" y="529884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14040" y="5298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69120" y="5357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4040" y="535716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57400" y="527184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19880" y="53672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79280" y="5357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24560" y="5298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9280" y="5240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79280" y="529884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34360" y="5298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89440" y="535716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34360" y="535716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26920" y="544788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89400" y="55429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49160" y="553320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94080" y="54745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49160" y="5415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49160" y="547452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4240" y="54745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59320" y="553320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4240" y="553320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6960" y="544788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3920" y="54745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39000" y="553320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83920" y="553320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37440" y="544788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14040" y="54745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69120" y="553320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14040" y="553320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7240" y="544788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24560" y="54745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79280" y="553320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24560" y="5533200"/>
              <a:ext cx="41040" cy="4644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29680" y="55429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89440" y="553320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34360" y="547452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89440" y="5415840"/>
              <a:ext cx="30600" cy="536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0"/>
                  </a:moveTo>
                  <a:cubicBezTo>
                    <a:pt x="5" y="18"/>
                    <a:pt x="7" y="10"/>
                    <a:pt x="2" y="26"/>
                  </a:cubicBezTo>
                  <a:cubicBezTo>
                    <a:pt x="1" y="28"/>
                    <a:pt x="0" y="32"/>
                    <a:pt x="0" y="32"/>
                  </a:cubicBezTo>
                  <a:cubicBezTo>
                    <a:pt x="4" y="44"/>
                    <a:pt x="8" y="42"/>
                    <a:pt x="20" y="40"/>
                  </a:cubicBezTo>
                  <a:cubicBezTo>
                    <a:pt x="27" y="29"/>
                    <a:pt x="11" y="15"/>
                    <a:pt x="8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89440" y="5474520"/>
              <a:ext cx="41040" cy="46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6" y="0"/>
                  </a:moveTo>
                  <a:cubicBezTo>
                    <a:pt x="14" y="15"/>
                    <a:pt x="0" y="34"/>
                    <a:pt x="22" y="38"/>
                  </a:cubicBezTo>
                  <a:cubicBezTo>
                    <a:pt x="32" y="36"/>
                    <a:pt x="33" y="33"/>
                    <a:pt x="36" y="24"/>
                  </a:cubicBezTo>
                  <a:cubicBezTo>
                    <a:pt x="33" y="16"/>
                    <a:pt x="29" y="13"/>
                    <a:pt x="22" y="8"/>
                  </a:cubicBezTo>
                  <a:cubicBezTo>
                    <a:pt x="20" y="1"/>
                    <a:pt x="22" y="3"/>
                    <a:pt x="1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311520" y="402444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60680" y="3048120"/>
            <a:ext cx="100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ida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3280" y="5943600"/>
            <a:ext cx="7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21000" y="4952880"/>
            <a:ext cx="107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sp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495288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336" y="144"/>
                </a:moveTo>
                <a:cubicBezTo>
                  <a:pt x="268" y="156"/>
                  <a:pt x="200" y="168"/>
                  <a:pt x="144" y="144"/>
                </a:cubicBezTo>
                <a:cubicBezTo>
                  <a:pt x="88" y="120"/>
                  <a:pt x="24" y="2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3880" y="579132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192" y="0"/>
                </a:moveTo>
                <a:lnTo>
                  <a:pt x="144" y="96"/>
                </a:lnTo>
                <a:lnTo>
                  <a:pt x="0" y="96"/>
                </a:lnTo>
                <a:lnTo>
                  <a:pt x="0" y="192"/>
                </a:lnTo>
                <a:lnTo>
                  <a:pt x="336" y="288"/>
                </a:lnTo>
                <a:lnTo>
                  <a:pt x="528" y="288"/>
                </a:lnTo>
                <a:lnTo>
                  <a:pt x="720" y="192"/>
                </a:lnTo>
                <a:lnTo>
                  <a:pt x="720" y="96"/>
                </a:lnTo>
                <a:lnTo>
                  <a:pt x="672" y="48"/>
                </a:lnTo>
                <a:lnTo>
                  <a:pt x="432" y="0"/>
                </a:lnTo>
                <a:lnTo>
                  <a:pt x="192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4876920"/>
            <a:ext cx="7621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9560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8240" y="62388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5. Filtros para g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51560" y="156204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ltros de man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41520" y="1509840"/>
            <a:ext cx="520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l gas con el sólido pasa por la bolsa (manga), las part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retienen y se forma una torta que hace también de filtro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23400" y="3048120"/>
            <a:ext cx="224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diferencia entre fil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debe a l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impiez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as mang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71920" y="2728800"/>
            <a:ext cx="528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 sacudida. Se corta la alimentación del gas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 sacudida y aire inve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 aire inve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3429000"/>
            <a:ext cx="283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os compartimentos. 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pia y el otro filtra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8080" y="4176720"/>
            <a:ext cx="341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ire a presión durante un breve peri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tiempo.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emicontinu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4419720"/>
            <a:ext cx="99036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52480" y="4419720"/>
            <a:ext cx="99072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19320" y="4724280"/>
            <a:ext cx="759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160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2388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05120" y="4724280"/>
            <a:ext cx="759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0968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62320" y="4724280"/>
            <a:ext cx="759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472428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9480" y="5867280"/>
            <a:ext cx="2362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648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4648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749840"/>
            <a:ext cx="2895480" cy="1460520"/>
          </a:xfrm>
          <a:custGeom>
            <a:avLst/>
            <a:gdLst/>
            <a:ahLst/>
            <a:rect l="l" t="t" r="r" b="b"/>
            <a:pathLst>
              <a:path w="1824" h="920">
                <a:moveTo>
                  <a:pt x="1824" y="32"/>
                </a:moveTo>
                <a:cubicBezTo>
                  <a:pt x="1688" y="16"/>
                  <a:pt x="1552" y="0"/>
                  <a:pt x="1440" y="32"/>
                </a:cubicBezTo>
                <a:cubicBezTo>
                  <a:pt x="1328" y="64"/>
                  <a:pt x="1208" y="128"/>
                  <a:pt x="1152" y="224"/>
                </a:cubicBezTo>
                <a:cubicBezTo>
                  <a:pt x="1096" y="320"/>
                  <a:pt x="1120" y="504"/>
                  <a:pt x="1104" y="608"/>
                </a:cubicBezTo>
                <a:cubicBezTo>
                  <a:pt x="1088" y="712"/>
                  <a:pt x="1112" y="800"/>
                  <a:pt x="1056" y="848"/>
                </a:cubicBezTo>
                <a:cubicBezTo>
                  <a:pt x="1000" y="896"/>
                  <a:pt x="848" y="920"/>
                  <a:pt x="768" y="896"/>
                </a:cubicBezTo>
                <a:cubicBezTo>
                  <a:pt x="688" y="872"/>
                  <a:pt x="616" y="816"/>
                  <a:pt x="576" y="704"/>
                </a:cubicBezTo>
                <a:cubicBezTo>
                  <a:pt x="536" y="592"/>
                  <a:pt x="552" y="336"/>
                  <a:pt x="528" y="224"/>
                </a:cubicBezTo>
                <a:cubicBezTo>
                  <a:pt x="504" y="112"/>
                  <a:pt x="520" y="64"/>
                  <a:pt x="432" y="32"/>
                </a:cubicBezTo>
                <a:cubicBezTo>
                  <a:pt x="344" y="0"/>
                  <a:pt x="172" y="16"/>
                  <a:pt x="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6480" y="533412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cudida y aire inve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91440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06668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21932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37160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52388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59092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43828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28600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13372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98108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5400" y="472428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e inve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4640" y="41148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cu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2266920" cy="14857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2381400" cy="2133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1619280" cy="21337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4"/>
          <a:stretch/>
        </p:blipFill>
        <p:spPr>
          <a:xfrm>
            <a:off x="4191120" y="990720"/>
            <a:ext cx="2381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830160" y="213372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epa.gov/ttn/catc/dir1/fsetlngs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20" y="28195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bhagroup.com/SpanishProductPag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S/IndexMai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0160" y="3733920"/>
            <a:ext cx="57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epa.gov/ttn/catc/dir1/fcyclons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4495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wsu.edu/~gmhyde/433_web_pag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yclones/-CycloneOverview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4000" y="76212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nlaces de interés de equipos para separación sólido-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y líquido-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8520" y="2438280"/>
            <a:ext cx="788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1. Identificar las diversas técnicas de separación sólido-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2. Conocer los fundamentos y ecuaciones que gobiernan las cámaras de 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3. Conocer el funcionamiento y fundamentos de los cicl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4. Conocer el funcionamiento, fundamentos y mecanismos de los electro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5. Conocer los fundamentos y tipos de la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6. Conocer los fundamentos y tipos de filtros de man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2193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9704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48800" y="106668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ificación de las técnicas según el tamaño a sepa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9704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3920" y="2438280"/>
            <a:ext cx="416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ámaras de grave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-2500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-1000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ectrofiltr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-10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vad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-100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ltros de mang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-30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9704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7200" y="70020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1. Cámaras de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39080" y="3429000"/>
            <a:ext cx="2745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 -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* g * 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/ (18 *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6560" y="1295280"/>
            <a:ext cx="69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=L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9080" y="205740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&gt;H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39760" y="1752480"/>
            <a:ext cx="1032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gt;H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60280" y="2286000"/>
            <a:ext cx="117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Q/(B*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5040" y="2819520"/>
            <a:ext cx="150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*B*H/Q&gt;H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4200" y="4038480"/>
            <a:ext cx="3036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*B/Q&gt; 18 *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/(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* g *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92680" y="5257800"/>
            <a:ext cx="2660040" cy="751680"/>
            <a:chOff x="3892680" y="5257800"/>
            <a:chExt cx="2660040" cy="751680"/>
          </a:xfrm>
        </p:grpSpPr>
        <p:sp>
          <p:nvSpPr>
            <p:cNvPr id="59" name=""/>
            <p:cNvSpPr/>
            <p:nvPr/>
          </p:nvSpPr>
          <p:spPr>
            <a:xfrm>
              <a:off x="4877640" y="525780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* 18 *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66320" y="5638680"/>
              <a:ext cx="1488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*B*(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 -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*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7960" y="563868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040" y="5790960"/>
              <a:ext cx="7596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419360" y="5257800"/>
              <a:ext cx="2282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525780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92680" y="5562360"/>
              <a:ext cx="50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09880" y="5029200"/>
            <a:ext cx="28958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819520"/>
            <a:ext cx="198108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43000" y="4267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85800" y="4266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33360" y="42670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676520" y="4266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66680" y="4572000"/>
            <a:ext cx="152640" cy="152280"/>
            <a:chOff x="1066680" y="4572000"/>
            <a:chExt cx="152640" cy="152280"/>
          </a:xfrm>
        </p:grpSpPr>
        <p:sp>
          <p:nvSpPr>
            <p:cNvPr id="73" name=""/>
            <p:cNvSpPr/>
            <p:nvPr/>
          </p:nvSpPr>
          <p:spPr>
            <a:xfrm>
              <a:off x="1066680" y="457200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143000" y="4610160"/>
              <a:ext cx="381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104480" y="4647960"/>
              <a:ext cx="3816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3000" y="4647600"/>
              <a:ext cx="3816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04480" y="4610160"/>
              <a:ext cx="381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057400" y="4572000"/>
            <a:ext cx="152280" cy="152280"/>
            <a:chOff x="2057400" y="4572000"/>
            <a:chExt cx="152280" cy="152280"/>
          </a:xfrm>
        </p:grpSpPr>
        <p:sp>
          <p:nvSpPr>
            <p:cNvPr id="79" name=""/>
            <p:cNvSpPr/>
            <p:nvPr/>
          </p:nvSpPr>
          <p:spPr>
            <a:xfrm>
              <a:off x="2057400" y="45720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4610160"/>
              <a:ext cx="381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095200" y="4647960"/>
              <a:ext cx="3816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3360" y="4647600"/>
              <a:ext cx="3816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95200" y="4610160"/>
              <a:ext cx="381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45684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6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8954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66880" y="3200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971800"/>
            <a:ext cx="1752840" cy="1219320"/>
          </a:xfrm>
          <a:custGeom>
            <a:avLst/>
            <a:gdLst/>
            <a:ahLst/>
            <a:rect l="l" t="t" r="r" b="b"/>
            <a:pathLst>
              <a:path w="1104" h="768">
                <a:moveTo>
                  <a:pt x="0" y="0"/>
                </a:moveTo>
                <a:cubicBezTo>
                  <a:pt x="244" y="56"/>
                  <a:pt x="488" y="112"/>
                  <a:pt x="672" y="240"/>
                </a:cubicBezTo>
                <a:cubicBezTo>
                  <a:pt x="856" y="368"/>
                  <a:pt x="980" y="568"/>
                  <a:pt x="110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819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858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6688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9840" y="22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32400">
            <a:off x="1526040" y="3351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08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7800" y="320040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3960" y="51055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ida de sól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72840" y="129528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empo de 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1905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2514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6600" y="491508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-25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57400" y="1600200"/>
          <a:ext cx="49528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00200"/>
                    <a:ext cx="49528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19704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733920" y="5638680"/>
            <a:ext cx="281916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9560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3440" y="54756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2. Cic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362320"/>
            <a:ext cx="914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35268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0"/>
                </a:moveTo>
                <a:lnTo>
                  <a:pt x="192" y="576"/>
                </a:lnTo>
                <a:lnTo>
                  <a:pt x="384" y="576"/>
                </a:lnTo>
                <a:lnTo>
                  <a:pt x="576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362320"/>
            <a:ext cx="2286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40676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56"/>
                </a:moveTo>
                <a:cubicBezTo>
                  <a:pt x="12" y="84"/>
                  <a:pt x="24" y="112"/>
                  <a:pt x="48" y="104"/>
                </a:cubicBezTo>
                <a:cubicBezTo>
                  <a:pt x="72" y="96"/>
                  <a:pt x="120" y="16"/>
                  <a:pt x="144" y="8"/>
                </a:cubicBezTo>
                <a:cubicBezTo>
                  <a:pt x="168" y="0"/>
                  <a:pt x="192" y="40"/>
                  <a:pt x="192" y="56"/>
                </a:cubicBezTo>
                <a:cubicBezTo>
                  <a:pt x="192" y="72"/>
                  <a:pt x="160" y="104"/>
                  <a:pt x="144" y="104"/>
                </a:cubicBezTo>
                <a:cubicBezTo>
                  <a:pt x="128" y="104"/>
                  <a:pt x="112" y="80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706400">
            <a:off x="2666520" y="1904760"/>
            <a:ext cx="228600" cy="10152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56"/>
                </a:moveTo>
                <a:cubicBezTo>
                  <a:pt x="12" y="84"/>
                  <a:pt x="24" y="112"/>
                  <a:pt x="48" y="104"/>
                </a:cubicBezTo>
                <a:cubicBezTo>
                  <a:pt x="72" y="96"/>
                  <a:pt x="120" y="16"/>
                  <a:pt x="144" y="8"/>
                </a:cubicBezTo>
                <a:cubicBezTo>
                  <a:pt x="168" y="0"/>
                  <a:pt x="192" y="40"/>
                  <a:pt x="192" y="56"/>
                </a:cubicBezTo>
                <a:cubicBezTo>
                  <a:pt x="192" y="72"/>
                  <a:pt x="160" y="104"/>
                  <a:pt x="144" y="104"/>
                </a:cubicBezTo>
                <a:cubicBezTo>
                  <a:pt x="128" y="104"/>
                  <a:pt x="112" y="80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352600">
            <a:off x="1249920" y="2483280"/>
            <a:ext cx="228600" cy="1382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56"/>
                </a:moveTo>
                <a:cubicBezTo>
                  <a:pt x="12" y="84"/>
                  <a:pt x="24" y="112"/>
                  <a:pt x="48" y="104"/>
                </a:cubicBezTo>
                <a:cubicBezTo>
                  <a:pt x="72" y="96"/>
                  <a:pt x="120" y="16"/>
                  <a:pt x="144" y="8"/>
                </a:cubicBezTo>
                <a:cubicBezTo>
                  <a:pt x="168" y="0"/>
                  <a:pt x="192" y="40"/>
                  <a:pt x="192" y="56"/>
                </a:cubicBezTo>
                <a:cubicBezTo>
                  <a:pt x="192" y="72"/>
                  <a:pt x="160" y="104"/>
                  <a:pt x="144" y="104"/>
                </a:cubicBezTo>
                <a:cubicBezTo>
                  <a:pt x="128" y="104"/>
                  <a:pt x="112" y="80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8600" y="2438280"/>
            <a:ext cx="12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98600" y="26668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2960" y="2666880"/>
            <a:ext cx="206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9240" y="274320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924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29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812960" y="2438280"/>
            <a:ext cx="206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2590920"/>
            <a:ext cx="206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39880" y="2438280"/>
            <a:ext cx="103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24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2578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52600">
            <a:off x="1440360" y="5912280"/>
            <a:ext cx="228600" cy="13788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56"/>
                </a:moveTo>
                <a:cubicBezTo>
                  <a:pt x="12" y="84"/>
                  <a:pt x="24" y="112"/>
                  <a:pt x="48" y="104"/>
                </a:cubicBezTo>
                <a:cubicBezTo>
                  <a:pt x="72" y="96"/>
                  <a:pt x="120" y="16"/>
                  <a:pt x="144" y="8"/>
                </a:cubicBezTo>
                <a:cubicBezTo>
                  <a:pt x="168" y="0"/>
                  <a:pt x="192" y="40"/>
                  <a:pt x="192" y="56"/>
                </a:cubicBezTo>
                <a:cubicBezTo>
                  <a:pt x="192" y="72"/>
                  <a:pt x="160" y="104"/>
                  <a:pt x="144" y="104"/>
                </a:cubicBezTo>
                <a:cubicBezTo>
                  <a:pt x="128" y="104"/>
                  <a:pt x="112" y="80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89040" y="586728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9040" y="60958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03400" y="6095880"/>
            <a:ext cx="206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617220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034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003400" y="5867280"/>
            <a:ext cx="206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03400" y="6019920"/>
            <a:ext cx="206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7432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2160" y="463392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ida de pol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0480" y="10666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ida de g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440" y="175248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 de po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de g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3600" y="1066680"/>
            <a:ext cx="26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sten 3 zona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1967040"/>
            <a:ext cx="75060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80880" y="1662120"/>
            <a:ext cx="234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domina velocidad ax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miento ascen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7480" y="2819520"/>
            <a:ext cx="75060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7800" y="281952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ilindro ideal de Stair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7480" y="3505320"/>
            <a:ext cx="75060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n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7080" y="3429000"/>
            <a:ext cx="27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bre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edomina velocidad tang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ovimiento descen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57320" y="4419720"/>
            <a:ext cx="4129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l equilibrio de las 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entrífuga y Centrípeta da una orbit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iro para cada partícula. Según la zon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sta órbita la partícula ascenderá o descenderá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5720" y="5772240"/>
            <a:ext cx="1611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6*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84840" y="6095880"/>
            <a:ext cx="1361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 G*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6095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6248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57909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1920" y="6019920"/>
            <a:ext cx="6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43200" y="5638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5334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38760" y="173844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2800" y="54100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320" y="5105520"/>
            <a:ext cx="315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9807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07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33600">
            <a:off x="1769040" y="3642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0" y="4495680"/>
            <a:ext cx="2270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isten unas dim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rrespondientes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óptim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quipo+energí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838080" y="380880"/>
          <a:ext cx="1882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1882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800600" y="609480"/>
          <a:ext cx="24066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609480"/>
                    <a:ext cx="2406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800600" y="3581280"/>
          <a:ext cx="2590920" cy="210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581280"/>
                    <a:ext cx="25909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209680" y="3962520"/>
          <a:ext cx="19098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962520"/>
                    <a:ext cx="1909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19704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77120" y="5029200"/>
            <a:ext cx="25146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5638680"/>
            <a:ext cx="190512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560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6360" y="39528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.3. Electro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2880" y="900000"/>
            <a:ext cx="74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paración por sedimentación de partículas (sólidas o líquidas) de tamaño muy pequ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diante la utilización de campos electrostáticos de alta ten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19320" y="2666880"/>
            <a:ext cx="1218600" cy="1524240"/>
            <a:chOff x="1219320" y="2666880"/>
            <a:chExt cx="1218600" cy="1524240"/>
          </a:xfrm>
        </p:grpSpPr>
        <p:sp>
          <p:nvSpPr>
            <p:cNvPr id="204" name=""/>
            <p:cNvSpPr/>
            <p:nvPr/>
          </p:nvSpPr>
          <p:spPr>
            <a:xfrm>
              <a:off x="1219320" y="2666880"/>
              <a:ext cx="121860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2666880"/>
              <a:ext cx="93600" cy="152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43960" y="2666880"/>
              <a:ext cx="93600" cy="1524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82880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572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44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81952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30492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4191120"/>
            <a:ext cx="304920" cy="75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" y="37958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600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2133720"/>
            <a:ext cx="7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4840" y="36576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61760" y="5181480"/>
            <a:ext cx="2057760" cy="1447920"/>
            <a:chOff x="761760" y="5181480"/>
            <a:chExt cx="2057760" cy="1447920"/>
          </a:xfrm>
        </p:grpSpPr>
        <p:sp>
          <p:nvSpPr>
            <p:cNvPr id="225" name=""/>
            <p:cNvSpPr/>
            <p:nvPr/>
          </p:nvSpPr>
          <p:spPr>
            <a:xfrm>
              <a:off x="1447920" y="5638680"/>
              <a:ext cx="533520" cy="533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44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61760" y="5943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67652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6172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492720" y="4100400"/>
            <a:ext cx="26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rga dependiente del ca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4520" y="41148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rga por 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30960" y="2895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5120" y="304812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31240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7280" y="29718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209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0574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600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4479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91440" y="448164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g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1240" y="4633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12240" y="2754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0360" y="31240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   ioniz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9480" y="34290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íc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76240" y="4557600"/>
            <a:ext cx="130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=K*E*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35160" y="4572000"/>
            <a:ext cx="137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=K’*E*D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*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14760" y="63864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96080" y="5638680"/>
            <a:ext cx="1131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er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éctrica,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600" y="5638680"/>
            <a:ext cx="1384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er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zamiento,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9400" y="53341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3657600"/>
            <a:ext cx="3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43040" y="1600200"/>
            <a:ext cx="78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R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39800" y="1981080"/>
            <a:ext cx="73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L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5480" y="2590920"/>
            <a:ext cx="78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q*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0240" y="29718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3*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37080" y="1828800"/>
            <a:ext cx="58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&lt; t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82240" y="1828800"/>
            <a:ext cx="1118160" cy="37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&gt;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R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3640" y="2666880"/>
            <a:ext cx="68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69560" y="2666880"/>
            <a:ext cx="176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*E=3*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359520" y="4876920"/>
            <a:ext cx="1985760" cy="747000"/>
            <a:chOff x="3359520" y="4876920"/>
            <a:chExt cx="1985760" cy="747000"/>
          </a:xfrm>
        </p:grpSpPr>
        <p:sp>
          <p:nvSpPr>
            <p:cNvPr id="265" name=""/>
            <p:cNvSpPr/>
            <p:nvPr/>
          </p:nvSpPr>
          <p:spPr>
            <a:xfrm>
              <a:off x="4207680" y="4876920"/>
              <a:ext cx="113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*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/4*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9520" y="5105520"/>
              <a:ext cx="924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*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/L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6520" y="5253120"/>
              <a:ext cx="1023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*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253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664440" y="5638680"/>
            <a:ext cx="1774440" cy="718560"/>
            <a:chOff x="3664440" y="5638680"/>
            <a:chExt cx="1774440" cy="718560"/>
          </a:xfrm>
        </p:grpSpPr>
        <p:sp>
          <p:nvSpPr>
            <p:cNvPr id="270" name=""/>
            <p:cNvSpPr/>
            <p:nvPr/>
          </p:nvSpPr>
          <p:spPr>
            <a:xfrm>
              <a:off x="4119480" y="5638680"/>
              <a:ext cx="1319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12*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50240" y="6019920"/>
              <a:ext cx="8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*K*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6019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64440" y="5791320"/>
              <a:ext cx="50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228800" y="3505320"/>
            <a:ext cx="1900080" cy="370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q*E/(3*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559920" y="5105160"/>
            <a:ext cx="2380680" cy="747360"/>
            <a:chOff x="6559920" y="5105160"/>
            <a:chExt cx="2380680" cy="747360"/>
          </a:xfrm>
        </p:grpSpPr>
        <p:sp>
          <p:nvSpPr>
            <p:cNvPr id="276" name=""/>
            <p:cNvSpPr/>
            <p:nvPr/>
          </p:nvSpPr>
          <p:spPr>
            <a:xfrm>
              <a:off x="7403400" y="5105520"/>
              <a:ext cx="121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K’*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T*E</a:t>
              </a:r>
              <a:r>
                <a:rPr b="0" lang="es-ES_tradnl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9920" y="5334120"/>
              <a:ext cx="924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*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/L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96920" y="5481720"/>
              <a:ext cx="1023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*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*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7480" y="5481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696080" y="5105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076960" y="54867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2080" y="5320080"/>
              <a:ext cx="48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=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47280" y="161136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mpo sedi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920" y="198108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mpo resi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82880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25146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za. eléc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04440" y="297180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za. ro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266688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95400">
            <a:off x="7962840" y="300960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95600" y="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paración sólido - gas y líquido -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" y="14097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8280" y="82404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8160" y="228600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úme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9400" y="32529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45720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1814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87560" y="4267080"/>
            <a:ext cx="66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dddd"/>
                </a:solidFill>
                <a:latin typeface="Monotype Sorts"/>
                <a:ea typeface="Monotype Sorts"/>
              </a:rPr>
              <a:t>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44080" y="39481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lectr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029200" y="4648320"/>
            <a:ext cx="761760" cy="761760"/>
            <a:chOff x="5029200" y="4648320"/>
            <a:chExt cx="761760" cy="761760"/>
          </a:xfrm>
        </p:grpSpPr>
        <p:sp>
          <p:nvSpPr>
            <p:cNvPr id="300" name=""/>
            <p:cNvSpPr/>
            <p:nvPr/>
          </p:nvSpPr>
          <p:spPr>
            <a:xfrm>
              <a:off x="5346720" y="4965480"/>
              <a:ext cx="12672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19640" y="4838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29200" y="4648320"/>
              <a:ext cx="76176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5920" y="483840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55920" y="5155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00520" y="483840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37160" y="5219640"/>
              <a:ext cx="6336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6720" y="5283000"/>
              <a:ext cx="6336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64240" y="50288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46720" y="471132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92560" y="4965480"/>
              <a:ext cx="6336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83000" y="4902120"/>
              <a:ext cx="6372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83000" y="5092560"/>
              <a:ext cx="6372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73440" y="5092560"/>
              <a:ext cx="6372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73440" y="4902120"/>
              <a:ext cx="6372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172200" y="4572000"/>
            <a:ext cx="1142640" cy="990720"/>
            <a:chOff x="6172200" y="4572000"/>
            <a:chExt cx="1142640" cy="990720"/>
          </a:xfrm>
        </p:grpSpPr>
        <p:grpSp>
          <p:nvGrpSpPr>
            <p:cNvPr id="316" name=""/>
            <p:cNvGrpSpPr/>
            <p:nvPr/>
          </p:nvGrpSpPr>
          <p:grpSpPr>
            <a:xfrm>
              <a:off x="6172200" y="4572000"/>
              <a:ext cx="190440" cy="990720"/>
              <a:chOff x="6172200" y="4572000"/>
              <a:chExt cx="190440" cy="990720"/>
            </a:xfrm>
          </p:grpSpPr>
          <p:sp>
            <p:nvSpPr>
              <p:cNvPr id="317" name=""/>
              <p:cNvSpPr/>
              <p:nvPr/>
            </p:nvSpPr>
            <p:spPr>
              <a:xfrm>
                <a:off x="6172200" y="4572000"/>
                <a:ext cx="19044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35560" y="463788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35560" y="47700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35560" y="4902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35560" y="503424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35560" y="516636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35560" y="5298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35560" y="54306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362640" y="4572000"/>
              <a:ext cx="190440" cy="990720"/>
              <a:chOff x="6362640" y="4572000"/>
              <a:chExt cx="190440" cy="9907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62640" y="4572000"/>
                <a:ext cx="19044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26000" y="463788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26000" y="47700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26000" y="4902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26000" y="503424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26000" y="516636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26000" y="5298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26000" y="54306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553080" y="4572000"/>
              <a:ext cx="190440" cy="990720"/>
              <a:chOff x="6553080" y="4572000"/>
              <a:chExt cx="190440" cy="990720"/>
            </a:xfrm>
          </p:grpSpPr>
          <p:sp>
            <p:nvSpPr>
              <p:cNvPr id="335" name=""/>
              <p:cNvSpPr/>
              <p:nvPr/>
            </p:nvSpPr>
            <p:spPr>
              <a:xfrm>
                <a:off x="6553080" y="4572000"/>
                <a:ext cx="19044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16440" y="463788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16440" y="47700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16440" y="4902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16440" y="503424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16440" y="516636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16440" y="5298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16440" y="54306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743520" y="4572000"/>
              <a:ext cx="190440" cy="990720"/>
              <a:chOff x="6743520" y="4572000"/>
              <a:chExt cx="190440" cy="9907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43520" y="4572000"/>
                <a:ext cx="19044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06880" y="463788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06880" y="47700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06880" y="4902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06880" y="503424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06880" y="516636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06880" y="5298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06880" y="54306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933960" y="4572000"/>
              <a:ext cx="190440" cy="990720"/>
              <a:chOff x="6933960" y="4572000"/>
              <a:chExt cx="190440" cy="990720"/>
            </a:xfrm>
          </p:grpSpPr>
          <p:sp>
            <p:nvSpPr>
              <p:cNvPr id="353" name=""/>
              <p:cNvSpPr/>
              <p:nvPr/>
            </p:nvSpPr>
            <p:spPr>
              <a:xfrm>
                <a:off x="6933960" y="4572000"/>
                <a:ext cx="19044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97320" y="463788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997320" y="47700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97320" y="4902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97320" y="503424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97320" y="516636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97320" y="5298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97320" y="54306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124400" y="4572000"/>
              <a:ext cx="190440" cy="990720"/>
              <a:chOff x="7124400" y="4572000"/>
              <a:chExt cx="190440" cy="990720"/>
            </a:xfrm>
          </p:grpSpPr>
          <p:sp>
            <p:nvSpPr>
              <p:cNvPr id="362" name=""/>
              <p:cNvSpPr/>
              <p:nvPr/>
            </p:nvSpPr>
            <p:spPr>
              <a:xfrm>
                <a:off x="7124400" y="4572000"/>
                <a:ext cx="19044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87760" y="463788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87760" y="47700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87760" y="4902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187760" y="503424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87760" y="516636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87760" y="5298120"/>
                <a:ext cx="5256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87760" y="5430600"/>
                <a:ext cx="52560" cy="5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5565240" y="38862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l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35320" y="5929200"/>
            <a:ext cx="224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ntiagudos para ob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or densidad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3733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9520" y="533520"/>
            <a:ext cx="419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lvo recolectado se elimina po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vibrac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lvo actúa como aislante y además h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suspensión de polvo tras las sacudidas, por 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se aleja del ide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42680" y="1752480"/>
            <a:ext cx="4758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partículas se eliminan por arrastre con 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íquido auxiliar (agua). Este líquido puede e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 en el gas y se condensa o ser aña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 colector. Necesita menor temperatura (condens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rtamiento más cerca del id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6094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18288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60948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09:08:59Z</dcterms:created>
  <dc:creator>Manuel Rodriguez</dc:creator>
  <dc:description/>
  <dc:language>en-US</dc:language>
  <cp:lastModifiedBy>Manuel Rodriguez</cp:lastModifiedBy>
  <dcterms:modified xsi:type="dcterms:W3CDTF">2001-10-19T09:05:14Z</dcterms:modified>
  <cp:revision>4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713983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docs\Edu\TQG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