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C07A-5DBE-4DFF-B1C5-2E678E9A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376-8A59-4BEB-BBB1-25849048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BB2D-C0B9-4B51-9CC9-3C722D2A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07D7-D07A-4FD8-9AB1-814E2091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D9C5-85FD-477C-80F5-E86DBA17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C1E8-12D3-4BCD-B397-9B1EB420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2CF-A530-4B88-9C06-E3B94252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572C-6C81-4EC7-B64C-3A6C43B9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A135-B40C-4A66-8609-4083C740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6945-9F33-4CC7-B4F3-A6504E13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0F4C-F737-470A-9B80-270F8EF4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645-AF55-4258-91FF-F71784A8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9B17-7225-4EBE-A4A9-A848944BD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01920" y="80316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a 7. Extracción líqu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64760" y="2514600"/>
            <a:ext cx="3091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1.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2.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3. Diagramas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4. Métodos de cál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059240" y="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960" y="304920"/>
            <a:ext cx="30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3. Diagramas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2800" y="8380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la de las f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6160" y="160020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+L=C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320" y="1600200"/>
            <a:ext cx="38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ases + Libertades = Componentes +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2800" y="609480"/>
            <a:ext cx="473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as variables que se pue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jar según el número de gr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 libertad son Presión, Temperatura y Composici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94920" y="2195640"/>
            <a:ext cx="53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17240" y="2271600"/>
            <a:ext cx="52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=4 que serán P,T y  composiciones de 2 especies en una f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10760" y="2743200"/>
            <a:ext cx="53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=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30920" y="2819520"/>
            <a:ext cx="428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=3 que serán P,T y  una composición en una f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352680" y="99036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10760" y="3352680"/>
            <a:ext cx="53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7680" y="350532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=2 que serán P y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41960" y="4557600"/>
            <a:ext cx="232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/MO = 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/MP = 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/MQ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53720" y="3733920"/>
            <a:ext cx="2881440" cy="2971800"/>
            <a:chOff x="153720" y="3733920"/>
            <a:chExt cx="2881440" cy="2971800"/>
          </a:xfrm>
        </p:grpSpPr>
        <p:graphicFrame>
          <p:nvGraphicFramePr>
            <p:cNvPr id="139" name=""/>
            <p:cNvGraphicFramePr/>
            <p:nvPr/>
          </p:nvGraphicFramePr>
          <p:xfrm>
            <a:off x="228600" y="3733920"/>
            <a:ext cx="2806560" cy="297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3733920"/>
                      <a:ext cx="280656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" name=""/>
            <p:cNvSpPr/>
            <p:nvPr/>
          </p:nvSpPr>
          <p:spPr>
            <a:xfrm>
              <a:off x="1523880" y="5562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90720" y="6172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05120" y="49528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8080" y="5562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49360" y="40384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82880" y="4724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26040" y="518148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3720" y="60958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92520" y="617220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68680" y="60958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8640" y="52578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23880" y="5638680"/>
              <a:ext cx="0" cy="609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600200" y="5181120"/>
              <a:ext cx="45720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990360" y="5257440"/>
              <a:ext cx="53316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81080" y="38862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82880" y="49528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74120" y="61722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4640" y="510552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5800" y="4800600"/>
              <a:ext cx="228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86000" y="4800600"/>
              <a:ext cx="2286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059240" y="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09480" y="380880"/>
          <a:ext cx="3173400" cy="33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317340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724280" y="457200"/>
          <a:ext cx="3295800" cy="33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457200"/>
                    <a:ext cx="329580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38080" y="3429000"/>
          <a:ext cx="3024360" cy="304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429000"/>
                    <a:ext cx="30243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029200" y="3276720"/>
          <a:ext cx="3187800" cy="321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3276720"/>
                    <a:ext cx="3187800" cy="32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2666880" y="38088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1371600"/>
            <a:ext cx="3049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16002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7080" y="342900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gla de la palan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360" y="3581280"/>
            <a:ext cx="2554920" cy="1189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 menores temperatu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umenta la inmiscibilida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vorece el equilibr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ificulta el contacto entre fas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s más lenta la transferencia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5257800"/>
            <a:ext cx="6094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1295280"/>
          <a:ext cx="3868560" cy="38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3868560" cy="38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906920" y="29718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96760" y="68580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nto Su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8920" y="281952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nto Dif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5800" y="495360"/>
            <a:ext cx="18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untos singu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137160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1447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1752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1600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81480" y="365760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09552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9552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49532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49532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365760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769572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5960" y="4038480"/>
            <a:ext cx="34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00360" y="3352680"/>
            <a:ext cx="36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00560" y="3352680"/>
            <a:ext cx="36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9840" y="4114800"/>
            <a:ext cx="34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26120" y="3502080"/>
            <a:ext cx="2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13840" y="990720"/>
            <a:ext cx="34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14560" y="1828800"/>
            <a:ext cx="36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95640" y="1295280"/>
            <a:ext cx="36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6200" y="1143000"/>
            <a:ext cx="953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81760" y="1447920"/>
            <a:ext cx="1685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i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+ y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i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 y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1i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71880" y="2133720"/>
            <a:ext cx="451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s tres puntos están alineados y se cumple la ley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palan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55520" y="5410080"/>
            <a:ext cx="5147280" cy="8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l ser 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punto diferencia de cualquier pareja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,L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tene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que 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estará alineado con cualquier pareja y ser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r tanto punto comú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29920" y="4419720"/>
            <a:ext cx="1501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47920" y="4721400"/>
            <a:ext cx="2637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1i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y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i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i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y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1i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 y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60680" y="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059240" y="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1480" y="304920"/>
            <a:ext cx="26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4. Métodos de cál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1240" y="68580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so contracorr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1295280"/>
            <a:ext cx="6098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1447920"/>
            <a:ext cx="72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ap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91320" y="1295280"/>
            <a:ext cx="6094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15000" y="1447920"/>
            <a:ext cx="68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apa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96080" y="1295280"/>
            <a:ext cx="6098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0120" y="1447920"/>
            <a:ext cx="72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apa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1371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05920" y="1371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371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1371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1371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1600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05520" y="1600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1600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1680" y="1600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1600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86600" y="1600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40080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33412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64832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23888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830592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276720" y="1981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763120" y="1981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838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57360" y="1066680"/>
            <a:ext cx="36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52080" y="2057400"/>
            <a:ext cx="34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809880" y="2209680"/>
          <a:ext cx="3868920" cy="38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209680"/>
                    <a:ext cx="3868920" cy="38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4419720" y="4267080"/>
            <a:ext cx="2590560" cy="1143000"/>
          </a:xfrm>
          <a:custGeom>
            <a:avLst/>
            <a:gdLst/>
            <a:ahLst/>
            <a:rect l="l" t="t" r="r" b="b"/>
            <a:pathLst>
              <a:path w="1632" h="720">
                <a:moveTo>
                  <a:pt x="0" y="720"/>
                </a:moveTo>
                <a:cubicBezTo>
                  <a:pt x="156" y="484"/>
                  <a:pt x="312" y="248"/>
                  <a:pt x="480" y="144"/>
                </a:cubicBezTo>
                <a:cubicBezTo>
                  <a:pt x="648" y="40"/>
                  <a:pt x="816" y="0"/>
                  <a:pt x="1008" y="96"/>
                </a:cubicBezTo>
                <a:cubicBezTo>
                  <a:pt x="1200" y="192"/>
                  <a:pt x="1416" y="456"/>
                  <a:pt x="1632" y="72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1120" y="5410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5308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81680" y="5181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267080" y="4419360"/>
            <a:ext cx="22860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00240" y="4876920"/>
            <a:ext cx="1981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4876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495680" y="5181480"/>
            <a:ext cx="228600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647960" y="495288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876560" y="4648320"/>
            <a:ext cx="144756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92560" y="5410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57760" y="5181480"/>
            <a:ext cx="327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89360" y="4114800"/>
            <a:ext cx="42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952880" y="50292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486040" y="48006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4876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6680" y="4572000"/>
            <a:ext cx="33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04560" y="2057400"/>
            <a:ext cx="34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86120" y="2057400"/>
            <a:ext cx="42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16000" y="2133720"/>
            <a:ext cx="45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12960" y="1981080"/>
            <a:ext cx="317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52640" y="1066680"/>
            <a:ext cx="36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41320" y="1066680"/>
            <a:ext cx="424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04040" y="106668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47520" y="1066680"/>
            <a:ext cx="44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10240" y="1066680"/>
            <a:ext cx="36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7080" y="2347920"/>
            <a:ext cx="1779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Datos: V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, L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, L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01520" y="4267080"/>
            <a:ext cx="19468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1º ) Punto suma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eterminación de V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69200" y="1204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5560" y="175248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a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079840" y="251460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olv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926840" y="53352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2743200"/>
            <a:ext cx="2117880" cy="5806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ner ecuaciones de balanc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3352680"/>
            <a:ext cx="2117520" cy="8240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oner caso contacto simple y equicorriente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200400" y="1219320"/>
          <a:ext cx="386856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219320"/>
                    <a:ext cx="386856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3809880" y="3276720"/>
            <a:ext cx="2590920" cy="1143000"/>
          </a:xfrm>
          <a:custGeom>
            <a:avLst/>
            <a:gdLst/>
            <a:ahLst/>
            <a:rect l="l" t="t" r="r" b="b"/>
            <a:pathLst>
              <a:path w="1632" h="720">
                <a:moveTo>
                  <a:pt x="0" y="720"/>
                </a:moveTo>
                <a:cubicBezTo>
                  <a:pt x="156" y="484"/>
                  <a:pt x="312" y="248"/>
                  <a:pt x="480" y="144"/>
                </a:cubicBezTo>
                <a:cubicBezTo>
                  <a:pt x="648" y="40"/>
                  <a:pt x="816" y="0"/>
                  <a:pt x="1008" y="96"/>
                </a:cubicBezTo>
                <a:cubicBezTo>
                  <a:pt x="1200" y="192"/>
                  <a:pt x="1416" y="456"/>
                  <a:pt x="1632" y="72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8128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1722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657600" y="3429000"/>
            <a:ext cx="22860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4190760" y="3885840"/>
            <a:ext cx="1981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1143000" y="4191120"/>
            <a:ext cx="5029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142640" y="3429000"/>
            <a:ext cx="4800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148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886200" y="4191120"/>
            <a:ext cx="2286000" cy="7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4038480" y="3962520"/>
            <a:ext cx="1981440" cy="7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267080" y="3657600"/>
            <a:ext cx="144792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83080" y="4419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9000" y="4191120"/>
            <a:ext cx="317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79520" y="3124080"/>
            <a:ext cx="41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90880" y="3657600"/>
            <a:ext cx="33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6200" y="4495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343400" y="40384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876560" y="38098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72440" y="2890800"/>
            <a:ext cx="217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º ) Punto diferencia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59240" y="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3733920" y="1447920"/>
          <a:ext cx="386856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447920"/>
                    <a:ext cx="386856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4343400" y="3505320"/>
            <a:ext cx="2590920" cy="1143000"/>
          </a:xfrm>
          <a:custGeom>
            <a:avLst/>
            <a:gdLst/>
            <a:ahLst/>
            <a:rect l="l" t="t" r="r" b="b"/>
            <a:pathLst>
              <a:path w="1632" h="720">
                <a:moveTo>
                  <a:pt x="0" y="720"/>
                </a:moveTo>
                <a:cubicBezTo>
                  <a:pt x="156" y="484"/>
                  <a:pt x="312" y="248"/>
                  <a:pt x="480" y="144"/>
                </a:cubicBezTo>
                <a:cubicBezTo>
                  <a:pt x="648" y="40"/>
                  <a:pt x="816" y="0"/>
                  <a:pt x="1008" y="96"/>
                </a:cubicBezTo>
                <a:cubicBezTo>
                  <a:pt x="1200" y="192"/>
                  <a:pt x="1416" y="456"/>
                  <a:pt x="1632" y="72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14800" y="4648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771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4419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191120" y="3657600"/>
            <a:ext cx="22860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4724280" y="4114440"/>
            <a:ext cx="198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1676520" y="4419720"/>
            <a:ext cx="5029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1676160" y="3657600"/>
            <a:ext cx="48006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48320" y="4114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9720" y="4419720"/>
            <a:ext cx="2286000" cy="7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676520" y="4191120"/>
            <a:ext cx="48765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571640" y="4191120"/>
            <a:ext cx="1981080" cy="7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4800600" y="3886200"/>
            <a:ext cx="144792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6240" y="4648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82160" y="4419720"/>
            <a:ext cx="317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82160" y="3962520"/>
            <a:ext cx="317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413040" y="3352680"/>
            <a:ext cx="41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95800" y="4267080"/>
            <a:ext cx="33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24400" y="3886200"/>
            <a:ext cx="33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9720" y="4724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124080" y="46479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5553200">
            <a:off x="5294880" y="4380120"/>
            <a:ext cx="81000" cy="1490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97560" y="2514600"/>
            <a:ext cx="29102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º ) Recta de reparto deter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partir de 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08360" y="3195720"/>
            <a:ext cx="2666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º )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 punto diferencia 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terminan 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59240" y="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3886200" y="1295280"/>
          <a:ext cx="3868560" cy="38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295280"/>
                    <a:ext cx="3868560" cy="38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4495680" y="3352680"/>
            <a:ext cx="2590920" cy="1143000"/>
          </a:xfrm>
          <a:custGeom>
            <a:avLst/>
            <a:gdLst/>
            <a:ahLst/>
            <a:rect l="l" t="t" r="r" b="b"/>
            <a:pathLst>
              <a:path w="1632" h="720">
                <a:moveTo>
                  <a:pt x="0" y="720"/>
                </a:moveTo>
                <a:cubicBezTo>
                  <a:pt x="156" y="484"/>
                  <a:pt x="312" y="248"/>
                  <a:pt x="480" y="144"/>
                </a:cubicBezTo>
                <a:cubicBezTo>
                  <a:pt x="648" y="40"/>
                  <a:pt x="816" y="0"/>
                  <a:pt x="1008" y="96"/>
                </a:cubicBezTo>
                <a:cubicBezTo>
                  <a:pt x="1200" y="192"/>
                  <a:pt x="1416" y="456"/>
                  <a:pt x="1632" y="72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67080" y="4495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629400" y="3429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343400" y="3504960"/>
            <a:ext cx="22860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 flipV="1">
            <a:off x="4876560" y="3962520"/>
            <a:ext cx="1981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1828800" y="4267080"/>
            <a:ext cx="5029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828440" y="3505320"/>
            <a:ext cx="48006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2000" y="4267080"/>
            <a:ext cx="228600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828800" y="4038120"/>
            <a:ext cx="48769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724280" y="4038480"/>
            <a:ext cx="198144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828800" y="3733560"/>
            <a:ext cx="45720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4952880" y="3733920"/>
            <a:ext cx="144792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68880" y="4495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634800" y="4267080"/>
            <a:ext cx="317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634800" y="3809880"/>
            <a:ext cx="317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06200" y="3581280"/>
            <a:ext cx="317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565320" y="3200400"/>
            <a:ext cx="41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348080" y="4114800"/>
            <a:ext cx="33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728960" y="4038480"/>
            <a:ext cx="33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5280" y="3657600"/>
            <a:ext cx="33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6680" y="3733920"/>
            <a:ext cx="33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02000" y="45720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029200" y="41148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562360" y="38862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733920" y="41911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276360" y="457200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449568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429000" y="4267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73520" y="1833480"/>
            <a:ext cx="29102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º ) Recta de reparto deter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 partir de L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2160" y="2514600"/>
            <a:ext cx="2638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6º )V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y punto diferencia (</a:t>
            </a: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eterminan L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75320" y="3129120"/>
            <a:ext cx="3154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7º )Se repite este proced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ucesivamente hasta que V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sup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 V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059240" y="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25240" y="1523880"/>
            <a:ext cx="64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www.modular-process.com/extraction_1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6040" y="2209680"/>
            <a:ext cx="66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www.aeat.com/pes/basys/manual/lle/index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4240" y="2895480"/>
            <a:ext cx="78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www.facstaff.bucknell.edu/mvigeant/field_guide/kandl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7760" y="3657600"/>
            <a:ext cx="43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www.robatel.com/gb/ec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1280" y="4343400"/>
            <a:ext cx="80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vienna.che.uic.edu/teaching/che396/sepProj/Snrtem~1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76200" y="304920"/>
            <a:ext cx="82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Links de interés relacionados con la extracción líqu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7440" y="2590920"/>
            <a:ext cx="73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. Conocer los fundamentos de la extracción líquido-líqu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2. Conocer los diferentes equipos para realizar la extracción líquido-líqu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3. Conocer y utilizar los diagramas ternarios de equilib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4. Realizar el diseño básico de un equipo de extracción líquido-líqu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6002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60680" y="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60680" y="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1480" y="30492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1.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3840" y="800280"/>
            <a:ext cx="62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na especie química pasa de una fase líquida a otra fase líqu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000" y="1447920"/>
            <a:ext cx="29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cto entre f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aración entre las dos f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17720" y="156204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apa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440" y="15238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apas suces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2120" y="2362320"/>
            <a:ext cx="31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paración soluto del disolv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4960" y="325296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r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88400" y="2819520"/>
            <a:ext cx="4859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Componentes poco volát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. Volatilidades prácticamente iguales entre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. Componente sensible a la tempera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. Poco soluto comparado con la disolu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. Exceso de consumo energético en la desti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271944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129528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880" y="48006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érmin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8960" y="4724280"/>
            <a:ext cx="43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acto: Fase con mayor contenido en disolv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inado: Fase con menor contenido en disolv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5040" y="5410080"/>
            <a:ext cx="53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ceso.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uto del refinado a la interfase y de ahí al extrac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4800" y="5943600"/>
            <a:ext cx="41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velocidad del proceso es proporcional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73200" y="5776920"/>
            <a:ext cx="324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 Área de la interf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. Gradiente de concentraciones en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s de cada fase y las de equilib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87480" y="6234120"/>
            <a:ext cx="34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oeficiente de transferencia de mater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2800" y="42670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apa i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640" y="1371600"/>
            <a:ext cx="7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ces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1905120"/>
            <a:ext cx="7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 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059240" y="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3280" y="30492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2.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370320" y="2666880"/>
          <a:ext cx="198756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0320" y="2666880"/>
                    <a:ext cx="19875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09480" y="2666880"/>
          <a:ext cx="200988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666880"/>
                    <a:ext cx="20098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248520" y="2743200"/>
          <a:ext cx="1960560" cy="25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2743200"/>
                    <a:ext cx="19605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976320" y="1028880"/>
            <a:ext cx="356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a sin agitación, por grav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80680" y="1905120"/>
            <a:ext cx="197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n elementos móv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90960" y="52434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p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41000" y="518148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l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9200" y="525780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7000" y="5562720"/>
            <a:ext cx="273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jora efic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vale para líquidos su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vale para líquidos visco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38440" y="5562720"/>
            <a:ext cx="289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 procesos con poc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apas de equilibrio: baja efic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sta 6m para una etapa teó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360" y="5624640"/>
            <a:ext cx="220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forados (poco us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lectores (baja altu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 una etapa teóric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059240" y="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43000" y="1447920"/>
          <a:ext cx="255744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47920"/>
                    <a:ext cx="25574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840240" y="838080"/>
            <a:ext cx="3522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quipos de funcionamiento puls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63920" y="1752480"/>
            <a:ext cx="195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vita la coalesc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65720" y="2057400"/>
            <a:ext cx="35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licable a columnas de platos y rell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62120" y="2438280"/>
            <a:ext cx="228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o consumo de ener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02120" y="5715000"/>
            <a:ext cx="28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ulsante con platos defle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572000" y="3198960"/>
            <a:ext cx="3790800" cy="31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059240" y="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467480" y="838080"/>
          <a:ext cx="1228680" cy="23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838080"/>
                    <a:ext cx="122868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80880" y="228600"/>
          <a:ext cx="587520" cy="304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28600"/>
                    <a:ext cx="587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20400" y="609480"/>
            <a:ext cx="3321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as con agitación mecá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7360" y="320040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chei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42840" y="3200400"/>
            <a:ext cx="17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ldshue-Rush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276720" y="3429000"/>
            <a:ext cx="1514520" cy="2800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670840" y="6248520"/>
            <a:ext cx="32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lumna Discos Rotativos (ARD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45280" y="4267080"/>
            <a:ext cx="235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jo número de etap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n cantidad de mate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ena disp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4960" y="35053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fles internos-ex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71440" y="3505320"/>
            <a:ext cx="14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fles ex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70640" y="3962520"/>
            <a:ext cx="32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itación para aumentar la disp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6629040" y="3809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620120" y="3809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160960" y="762120"/>
          <a:ext cx="1354320" cy="2514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60960" y="762120"/>
                    <a:ext cx="1354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5181480" y="762120"/>
            <a:ext cx="1322640" cy="2514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7467480" y="838080"/>
            <a:ext cx="1225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4647960" cy="3479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00600" y="3419640"/>
            <a:ext cx="396252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10920" y="533520"/>
            <a:ext cx="3638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quipos que usan la fuerz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257800" y="1295280"/>
          <a:ext cx="280044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295280"/>
                    <a:ext cx="280044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843840" y="2133720"/>
            <a:ext cx="396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rmiten tiempos de contacto y sed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uy breves. Para productos ines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066680" y="2971800"/>
            <a:ext cx="4038840" cy="3305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060680" y="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381560" cy="4162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207080" y="50911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if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210200" y="1600200"/>
            <a:ext cx="49338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5T07:33:21Z</dcterms:created>
  <dc:creator>Manuel Rodriguez</dc:creator>
  <dc:description/>
  <dc:language>en-US</dc:language>
  <cp:lastModifiedBy>Manuel Rodriguez</cp:lastModifiedBy>
  <cp:lastPrinted>2000-07-27T09:50:43Z</cp:lastPrinted>
  <dcterms:modified xsi:type="dcterms:W3CDTF">2001-11-08T20:54:58Z</dcterms:modified>
  <cp:revision>88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713983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F:\docs\Edu\TQG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