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A560-F1F5-4B1B-B25E-59363F3B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55D8-A50D-4E97-8EDF-FDAC8A2B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59E0-EE24-4121-B7B5-724EC0FA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181-47A0-4C16-A367-4911C3A2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54EA-5B2D-4C51-AB71-92C2A9E6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6F8A-2CD2-498A-B669-070C9AB5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462B-7C07-43BC-A201-B2786668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6945-D58F-43FE-B13A-7681A896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EF5A-3E67-447A-B3E8-AE683D0D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675A-42BC-48F2-BB18-D6172D20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7B3D-4F61-4628-8172-67BA73E3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52EF-B2F0-408E-9EA1-06FB5E70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35FD-1E4A-4D30-9653-6923A1E96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4720" y="114300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a 8. Desti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43120" y="2133720"/>
            <a:ext cx="4365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1. Equilibrio líquido-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2. Fundamentos de la desti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3. Determinación del número de eta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4. Importancia de la relación de reflu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5. Tipos de colum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6. Destilaciones espe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77120" y="2057400"/>
            <a:ext cx="14763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136000" y="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sti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3152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38080" y="182520"/>
            <a:ext cx="7391520" cy="65595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8136000" y="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sti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274680"/>
            <a:ext cx="7620120" cy="64371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136000" y="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sti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105680" cy="6313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8136000" y="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sti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38080" y="147600"/>
            <a:ext cx="7772400" cy="6315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136000" y="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sti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848360" cy="6357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136000" y="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sti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35600" y="343080"/>
            <a:ext cx="39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.4. Importancia de la relación de reflu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8280" y="914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lu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560" y="32004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lujo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560" y="43434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luj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560" y="556272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lujo ópt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7080" y="1471680"/>
            <a:ext cx="2369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flujo interno R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6720" y="1928880"/>
            <a:ext cx="234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flujo externo R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L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2760" y="2438280"/>
            <a:ext cx="3809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ndiente recta de operació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/ (R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+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343400" y="838080"/>
            <a:ext cx="2776680" cy="18511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86600" y="1523880"/>
            <a:ext cx="733320" cy="10242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495680" y="2895480"/>
            <a:ext cx="2643480" cy="1814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7086600" y="3505320"/>
            <a:ext cx="747720" cy="10141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4648320" y="4952880"/>
            <a:ext cx="2338200" cy="1662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7086600" y="5410080"/>
            <a:ext cx="723960" cy="1033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30840" y="3581280"/>
            <a:ext cx="3562560" cy="891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e extraen todos los vapore D=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;L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0;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0; Recta operación horizo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úmero de platos infin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6800" y="4724280"/>
            <a:ext cx="3873240" cy="891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se extrae condensado D=0;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L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;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1; Recta operación 45º (diagon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úmero de platos mín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5560" y="5853240"/>
            <a:ext cx="3690360" cy="824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ínimo entre costes fijos (aumentan con 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úmero de platos) y variables (aument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 el diámetro de la column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0100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001000" y="5638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86680" y="3505320"/>
            <a:ext cx="40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86680" y="5715000"/>
            <a:ext cx="40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136000" y="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sti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63600" y="3430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.5. Tipos de colum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560" y="685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as de pl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3400" y="685800"/>
            <a:ext cx="20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as de rell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1380960" cy="2600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315200" y="1143000"/>
            <a:ext cx="1593720" cy="28954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5454720" y="1143000"/>
            <a:ext cx="1662120" cy="2819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228600" y="3962520"/>
            <a:ext cx="1900080" cy="28954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5562720" y="4419720"/>
            <a:ext cx="1533240" cy="2057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7467480" y="5257800"/>
            <a:ext cx="1371600" cy="11095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212920" y="4214880"/>
            <a:ext cx="2270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tos de campana p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rbot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tos perfor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tos válv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69200" y="1662120"/>
            <a:ext cx="223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bosaderos asegura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lado del pl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02960" y="4253040"/>
            <a:ext cx="173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.E.T.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ltura equival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e plato teór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136000" y="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sti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7467480" y="525780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7467480" y="5257800"/>
            <a:ext cx="137160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428840" cy="1419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819520" y="990720"/>
            <a:ext cx="1428480" cy="1190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334120" y="762120"/>
            <a:ext cx="1885680" cy="20095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609480" y="2362320"/>
            <a:ext cx="2857680" cy="2257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4572000" y="2514600"/>
            <a:ext cx="1828800" cy="2762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6858000" y="2209680"/>
            <a:ext cx="1876320" cy="3857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914400" y="4648320"/>
            <a:ext cx="3048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62880" y="41904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.6. Destilaciones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7480" y="1371600"/>
            <a:ext cx="81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stilación discontinua o por lote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 Se deposita la carga en el calderín. Se va aume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ando la relación de reflujo para evitar en parte la pérdida de pureza en cabez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8640" y="2209680"/>
            <a:ext cx="84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stilación por arrastre de vapor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 introduce vapor de agua en la columna com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mento calefactor. Para productos que se evaporan difícilmente (baja su presión parcial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0440" y="3048120"/>
            <a:ext cx="819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stilación a vacío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ctos que se evaporan a altas temperaturas, al bajar la 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ja la temperatura de evapo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0800" y="3886200"/>
            <a:ext cx="81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stilación azeotrópica.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Se añade una nueva sustancia que rompa el azeótropo, sue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rear un nuevo azeótropo ternario que se separa posterior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7920" y="4876920"/>
            <a:ext cx="83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stilación extractiva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 añade un agente extractivo que aumente la volatilidad rel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las especies que se quieren desti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9000" y="5791320"/>
            <a:ext cx="82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stilación reactiva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alimentación reacciona dentro de la columna, los productos 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paran por destil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136000" y="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sti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75840" y="2743200"/>
            <a:ext cx="818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nocer las leyes que rigen el equilibrio líquido-vap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nocer los fundamentos y funcionamiento de la destil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alizar un diseño básico de una columna de destil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nocer los parámetros que influyen en la operación de una columna de destil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nocer los diferentes tipos de destilación y equipos que existen en la indust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3640" y="171756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137440" y="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sti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19840" y="9144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ttp://lorien.ncl.ac.uk/ming/distil/distil0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137440" y="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sti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7520" y="533520"/>
            <a:ext cx="311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1. Equilibrio líquido-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1400" y="914400"/>
            <a:ext cx="810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a separación por destilación es el método más empleado de separación en la Industri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4495680"/>
            <a:ext cx="2500560" cy="1640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2895480" cy="1876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429000" y="4522680"/>
            <a:ext cx="2514600" cy="1643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>
            <a:off x="167652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2819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819520" y="3200040"/>
            <a:ext cx="10666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895480" y="26668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27080" y="2514600"/>
            <a:ext cx="255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rva de vapor (puntos de rocí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0520" y="3048120"/>
            <a:ext cx="28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rva de líquido (puntos de burbuj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286000" y="411444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962160" y="4419720"/>
            <a:ext cx="10666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98240" y="3859200"/>
            <a:ext cx="155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zeótropo máx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6480" y="416412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zeótropo mín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720" y="1409760"/>
            <a:ext cx="16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agramas T-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514600" y="2057040"/>
            <a:ext cx="17524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800" y="190512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 f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6640" y="3352680"/>
            <a:ext cx="345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10160" y="3352680"/>
            <a:ext cx="345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136000" y="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sti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4703760"/>
            <a:ext cx="2057400" cy="1481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352680" y="4724280"/>
            <a:ext cx="2376720" cy="1517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172200" y="4648320"/>
            <a:ext cx="2443320" cy="1600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91800" y="4191120"/>
            <a:ext cx="16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agramas y-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6240" y="34308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yes que rigen el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4240" y="914400"/>
            <a:ext cx="2832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ey de Dalton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=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8000" y="1447920"/>
            <a:ext cx="3720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ey de Raoult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=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;  P=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9000" y="1905120"/>
            <a:ext cx="3585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ey de Henry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=Py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; 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=Py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84880" y="1523880"/>
            <a:ext cx="40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e para disoluciones diluidas, elementos no pola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4600" y="1981080"/>
            <a:ext cx="19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ale para gases pef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87520" y="2781360"/>
            <a:ext cx="2209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=(P-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/ =(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44800" y="1676520"/>
            <a:ext cx="393480" cy="1295280"/>
          </a:xfrm>
          <a:custGeom>
            <a:avLst/>
            <a:gdLst/>
            <a:ahLst/>
            <a:rect l="l" t="t" r="r" b="b"/>
            <a:pathLst>
              <a:path w="248" h="816">
                <a:moveTo>
                  <a:pt x="248" y="0"/>
                </a:moveTo>
                <a:cubicBezTo>
                  <a:pt x="132" y="148"/>
                  <a:pt x="16" y="296"/>
                  <a:pt x="8" y="432"/>
                </a:cubicBezTo>
                <a:cubicBezTo>
                  <a:pt x="0" y="568"/>
                  <a:pt x="100" y="692"/>
                  <a:pt x="200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60440" y="2133720"/>
            <a:ext cx="254160" cy="761760"/>
          </a:xfrm>
          <a:custGeom>
            <a:avLst/>
            <a:gdLst/>
            <a:ahLst/>
            <a:rect l="l" t="t" r="r" b="b"/>
            <a:pathLst>
              <a:path w="160" h="480">
                <a:moveTo>
                  <a:pt x="160" y="0"/>
                </a:moveTo>
                <a:cubicBezTo>
                  <a:pt x="96" y="80"/>
                  <a:pt x="32" y="160"/>
                  <a:pt x="16" y="240"/>
                </a:cubicBezTo>
                <a:cubicBezTo>
                  <a:pt x="0" y="320"/>
                  <a:pt x="32" y="400"/>
                  <a:pt x="64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3120" y="2819520"/>
            <a:ext cx="370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e para cuando se cumplen los estados ide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normalmente los datos de equilibrio se obtien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xperimental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95480" y="3581280"/>
            <a:ext cx="1676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136000" y="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sti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0400" y="57168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.2. Fundamentos de la desti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8720" y="1333440"/>
            <a:ext cx="685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tilación diferencial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Vaporización parcial de un líquido contenido en un recip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e obtiene vapor más rico en componente más voláti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1040" y="2057400"/>
            <a:ext cx="6593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stilación flash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aporización parcial de una corriente alimentada a 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cipiente a presión a una temperatura donde hay vap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instantánea y se separa un líquido en equilibrio con un vap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stilación en una etap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40840" y="3733920"/>
            <a:ext cx="2127240" cy="1777320"/>
            <a:chOff x="240840" y="3733920"/>
            <a:chExt cx="2127240" cy="1777320"/>
          </a:xfrm>
        </p:grpSpPr>
        <p:sp>
          <p:nvSpPr>
            <p:cNvPr id="90" name=""/>
            <p:cNvSpPr/>
            <p:nvPr/>
          </p:nvSpPr>
          <p:spPr>
            <a:xfrm>
              <a:off x="1295280" y="4876920"/>
              <a:ext cx="53352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95280" y="4191120"/>
              <a:ext cx="53352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95280" y="4267080"/>
              <a:ext cx="5335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9480" y="4572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1523880" y="3885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23880" y="5029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0840" y="4572000"/>
              <a:ext cx="79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,x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,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31800" y="3733920"/>
              <a:ext cx="83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,y,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31080" y="5105520"/>
              <a:ext cx="74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L,x,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880720" y="354348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=L+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00160" y="3886200"/>
            <a:ext cx="157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 x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= Lx + V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42200" y="4952880"/>
            <a:ext cx="1803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= L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+ V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120" y="32004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alance má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8080" y="457200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alance entálp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876920" y="41911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76920" y="44956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6720" y="3886200"/>
            <a:ext cx="3001680" cy="614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os puntos (x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,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);(x,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);(y,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stán alineados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en un sistema x-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73400" y="4572000"/>
            <a:ext cx="2683080" cy="891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/F=(y-x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)/(y-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/F=(x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x)/(y-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 cumple la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ley de la palan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48880" y="5676840"/>
            <a:ext cx="3274560" cy="954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el sistema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 es adiab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suma el término de calor (q)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alimentación (h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5591160" cy="5619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136000" y="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sti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3360" y="380880"/>
            <a:ext cx="50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tilación en etapas (fraccionamiento-rect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914400"/>
            <a:ext cx="16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2666880"/>
            <a:ext cx="373392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4648320"/>
            <a:ext cx="1447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380880"/>
            <a:ext cx="1524240" cy="624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38680" y="5943600"/>
            <a:ext cx="381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80520" y="2819520"/>
            <a:ext cx="3868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ucesivas evaporaciones y condens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ienen lugar en una columna en cuyo int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 colocan platos. En cada plato se produ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eóricamente el equilibrio L-V y se consid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 plato o etapa ide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9237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136000" y="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sti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7520" y="571680"/>
            <a:ext cx="50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tilación en etapas (fraccionamiento-rect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720" y="110484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da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81680" y="2362320"/>
            <a:ext cx="1952640" cy="3028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0948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32004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3352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362320" y="228564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362320" y="3352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85920" y="2195640"/>
            <a:ext cx="34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01760" y="3429000"/>
            <a:ext cx="34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45120" y="3429000"/>
            <a:ext cx="386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45120" y="2362320"/>
            <a:ext cx="386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8960" y="2438280"/>
            <a:ext cx="36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8960" y="3505320"/>
            <a:ext cx="36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11960" y="3505320"/>
            <a:ext cx="38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11960" y="2438280"/>
            <a:ext cx="38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9400" y="4572000"/>
            <a:ext cx="1805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en equilib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09480" y="2286000"/>
            <a:ext cx="1639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37560" y="2743200"/>
            <a:ext cx="2373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+ V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35400" y="3581280"/>
            <a:ext cx="2482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+ V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000" y="175248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alance má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5280" y="320040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alance entálp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136000" y="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sti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4800" y="15228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.3. Determinación del número de eta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2971800" cy="2090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419720" y="1066680"/>
            <a:ext cx="3124080" cy="2117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362320" y="3343320"/>
            <a:ext cx="3431880" cy="35146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69240" y="495360"/>
            <a:ext cx="26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Método de McCabe-Thi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07040" y="3962520"/>
            <a:ext cx="2124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y=(F/V)x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(F/V - 1)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46320" y="461016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90520" y="4457880"/>
            <a:ext cx="564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x=x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y=x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23200" y="4471920"/>
            <a:ext cx="76320" cy="60984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35880" y="5410080"/>
            <a:ext cx="232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ndiente -(F/V - 1)=-L/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78960" y="361944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cta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4343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136000" y="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sti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80880" y="3581280"/>
            <a:ext cx="3276720" cy="3276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410080" y="3648240"/>
            <a:ext cx="3156120" cy="3209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3019320" cy="2970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3124080" y="380880"/>
            <a:ext cx="3141720" cy="3186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5989680" y="304920"/>
            <a:ext cx="3154320" cy="3176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718800" y="3924360"/>
            <a:ext cx="143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d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8T09:46:21Z</dcterms:created>
  <dc:creator>Manuel Rodriguez</dc:creator>
  <dc:description/>
  <dc:language>en-US</dc:language>
  <cp:lastModifiedBy>Manuel Rodriguez</cp:lastModifiedBy>
  <dcterms:modified xsi:type="dcterms:W3CDTF">2001-11-08T20:58:30Z</dcterms:modified>
  <cp:revision>57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713983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F:\docs\Edu\TQG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