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1E2-335A-4FAC-8600-7BDB55538D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reve introducción: producción, aplicaciones, evolución histó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ceso Solvay. Utilizado hoy en día. Reacciones que tienen lugar y el diagrama de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ísicoquímica del proceso. Diagramas de solubilidad, Diagrama Jaenec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amos a hablar del carbonato só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plicaciones principales. Normalmente son cristales hidratados . Industria química porque cede su Na fácilmente al estar unido a un ácido débil, por su CO3 para formar carbonatos (pigmentos) y por su alcalinidad para neutralizacione de 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s proces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ceso Leblanc. Se suicidó el susodi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acción global. Materias primas: CaCO3 y NaCl. No reaccionan bien entre ellas. Se sigue un ro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: Intercambio io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I: H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II: Descompos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V: Carbona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V/RVI: Formación de lechada de 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y puro pero bajo tamaño de particula-&gt;baja densidad aparente y dificil manejo: light soda 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densifica por recristalización como monohidrato que luego se deshidrata o bien se compacta mecanicamente: dense soda ash comerci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F25-15C1-4513-9AA2-69BED8BB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AF1-7229-4036-9B88-4F3664F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9C3-0351-4B40-AFE1-103AA094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B92-2889-40FB-B638-DB0D2247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FEC-FB60-4CF5-8239-1C15871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B38-3015-4321-A5C9-F2ECB9E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3F6-0790-45E6-832B-9DE2F38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3CA-D49D-4C14-AB13-9E52934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D8F-AA70-470B-86E8-BAD03E97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DB5-6D0B-4D7F-A8C5-B1449DC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E86-AAE5-46C0-9DBB-899B3B6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27B-0B31-4A6C-8EBB-6623BD1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B5E2-8ED8-4887-8DB4-39F2BA42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3120" y="685800"/>
            <a:ext cx="52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a VII: ALCALIS y HAL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ato Sódico (So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6640" y="236232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SICOQUÍMIC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92920" y="5745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Ácido Clorhí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1320" y="1409760"/>
            <a:ext cx="78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bten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o subproducto de procesos que emplean cloro (cloruro de vinilo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binación directa de hidrógeno y cloro. Sólo un 7% de la pr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6360" y="2666880"/>
            <a:ext cx="7593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a Orgánica: adición a dobles/triples enlaces, catalizador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ímica Inorgánica: sales derivadas (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), limpieza de metales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ercializa en solución al 20%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6200" y="4076640"/>
            <a:ext cx="764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y soluble en agua (42% a 20º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zeótropo con agua, a 1 atm tiene uno en 108,6ºC y 20,2%p de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lación &lt;20%p. Agua en cabeza y azeótropo en fo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tilación  &gt;20%p. Ácido en cabeza y azeótropo en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93280" y="5745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81240" y="1333440"/>
            <a:ext cx="25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05080" y="1333440"/>
            <a:ext cx="3474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mente exo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itar mezclas de 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plos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152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08640" y="3657600"/>
            <a:ext cx="33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Ácido en solución acuosa 32-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dimientos de reacció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ción altos &gt; 9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10560" y="4000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74720" y="1184400"/>
            <a:ext cx="423720" cy="1694880"/>
            <a:chOff x="1674720" y="1184400"/>
            <a:chExt cx="423720" cy="1694880"/>
          </a:xfrm>
        </p:grpSpPr>
        <p:sp>
          <p:nvSpPr>
            <p:cNvPr id="376" name=""/>
            <p:cNvSpPr/>
            <p:nvPr/>
          </p:nvSpPr>
          <p:spPr>
            <a:xfrm>
              <a:off x="1674720" y="2701080"/>
              <a:ext cx="423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4720" y="1184400"/>
              <a:ext cx="42372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4720" y="1273320"/>
              <a:ext cx="423720" cy="151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289320" y="1184400"/>
            <a:ext cx="425160" cy="1694880"/>
            <a:chOff x="3289320" y="1184400"/>
            <a:chExt cx="425160" cy="1694880"/>
          </a:xfrm>
        </p:grpSpPr>
        <p:sp>
          <p:nvSpPr>
            <p:cNvPr id="380" name=""/>
            <p:cNvSpPr/>
            <p:nvPr/>
          </p:nvSpPr>
          <p:spPr>
            <a:xfrm>
              <a:off x="3289320" y="2701080"/>
              <a:ext cx="42516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89320" y="1184400"/>
              <a:ext cx="42516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89320" y="1273320"/>
              <a:ext cx="425160" cy="151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098800" y="3951360"/>
            <a:ext cx="424800" cy="1694880"/>
            <a:chOff x="2098800" y="3951360"/>
            <a:chExt cx="424800" cy="1694880"/>
          </a:xfrm>
        </p:grpSpPr>
        <p:sp>
          <p:nvSpPr>
            <p:cNvPr id="384" name=""/>
            <p:cNvSpPr/>
            <p:nvPr/>
          </p:nvSpPr>
          <p:spPr>
            <a:xfrm>
              <a:off x="2098800" y="5468040"/>
              <a:ext cx="42480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800" y="3951360"/>
              <a:ext cx="424800" cy="17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8800" y="4040280"/>
              <a:ext cx="424800" cy="151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075280" y="3416400"/>
            <a:ext cx="1020240" cy="786600"/>
            <a:chOff x="5075280" y="3416400"/>
            <a:chExt cx="1020240" cy="786600"/>
          </a:xfrm>
        </p:grpSpPr>
        <p:sp>
          <p:nvSpPr>
            <p:cNvPr id="388" name=""/>
            <p:cNvSpPr/>
            <p:nvPr/>
          </p:nvSpPr>
          <p:spPr>
            <a:xfrm>
              <a:off x="5330160" y="3416400"/>
              <a:ext cx="510120" cy="53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075280" y="3683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840640" y="368352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5280" y="3683520"/>
              <a:ext cx="1020240" cy="519480"/>
            </a:xfrm>
            <a:custGeom>
              <a:avLst/>
              <a:gdLst/>
              <a:ahLst/>
              <a:rect l="l" t="t" r="r" b="b"/>
              <a:pathLst>
                <a:path w="576" h="280">
                  <a:moveTo>
                    <a:pt x="0" y="0"/>
                  </a:moveTo>
                  <a:cubicBezTo>
                    <a:pt x="36" y="100"/>
                    <a:pt x="72" y="200"/>
                    <a:pt x="144" y="240"/>
                  </a:cubicBezTo>
                  <a:cubicBezTo>
                    <a:pt x="216" y="280"/>
                    <a:pt x="360" y="280"/>
                    <a:pt x="432" y="240"/>
                  </a:cubicBezTo>
                  <a:cubicBezTo>
                    <a:pt x="504" y="200"/>
                    <a:pt x="540" y="100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61240" y="4040280"/>
            <a:ext cx="1105920" cy="624960"/>
            <a:chOff x="6861240" y="4040280"/>
            <a:chExt cx="1105920" cy="624960"/>
          </a:xfrm>
        </p:grpSpPr>
        <p:sp>
          <p:nvSpPr>
            <p:cNvPr id="393" name=""/>
            <p:cNvSpPr/>
            <p:nvPr/>
          </p:nvSpPr>
          <p:spPr>
            <a:xfrm>
              <a:off x="6861240" y="4040280"/>
              <a:ext cx="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61240" y="4665240"/>
              <a:ext cx="11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61240" y="4040280"/>
              <a:ext cx="5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56680" y="4040280"/>
              <a:ext cx="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56680" y="4218480"/>
              <a:ext cx="51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67160" y="4218480"/>
              <a:ext cx="0" cy="44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993600" y="1362240"/>
            <a:ext cx="6811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4640" y="2879640"/>
            <a:ext cx="180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4640" y="3147840"/>
            <a:ext cx="765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10000" y="1452240"/>
            <a:ext cx="1440" cy="169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10000" y="1452600"/>
            <a:ext cx="67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60680" y="2879640"/>
            <a:ext cx="180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23960" y="4486320"/>
            <a:ext cx="8510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523600" y="4129200"/>
            <a:ext cx="3062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40280" y="3594240"/>
            <a:ext cx="511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51480" y="3594240"/>
            <a:ext cx="180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51480" y="4397400"/>
            <a:ext cx="50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098800" y="2590920"/>
            <a:ext cx="18720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270160" y="3236400"/>
            <a:ext cx="144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70160" y="2970360"/>
            <a:ext cx="169920" cy="266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0" y="192"/>
                </a:moveTo>
                <a:cubicBezTo>
                  <a:pt x="40" y="180"/>
                  <a:pt x="80" y="168"/>
                  <a:pt x="96" y="144"/>
                </a:cubicBezTo>
                <a:cubicBezTo>
                  <a:pt x="112" y="120"/>
                  <a:pt x="112" y="72"/>
                  <a:pt x="96" y="48"/>
                </a:cubicBezTo>
                <a:cubicBezTo>
                  <a:pt x="80" y="24"/>
                  <a:pt x="16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270160" y="2612520"/>
            <a:ext cx="144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54400" y="5646600"/>
            <a:ext cx="144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54400" y="5915160"/>
            <a:ext cx="76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46920" y="19875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72440" y="19875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946920" y="1273320"/>
            <a:ext cx="1699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16840" y="1273320"/>
            <a:ext cx="8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86680" y="1277640"/>
            <a:ext cx="201600" cy="70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46920" y="2433600"/>
            <a:ext cx="425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521400" y="1452600"/>
            <a:ext cx="509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21400" y="1452600"/>
            <a:ext cx="18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6840" y="649440"/>
            <a:ext cx="14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72440" y="2344680"/>
            <a:ext cx="33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11920" y="23446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360" y="2522520"/>
            <a:ext cx="144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21680" y="2522520"/>
            <a:ext cx="144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42360" y="3147840"/>
            <a:ext cx="67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81840" y="2344680"/>
            <a:ext cx="180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97960" y="2970360"/>
            <a:ext cx="169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37440" y="2344680"/>
            <a:ext cx="33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37440" y="23446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21680" y="2970360"/>
            <a:ext cx="68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902800" y="2970360"/>
            <a:ext cx="12600" cy="23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352320" y="5334120"/>
            <a:ext cx="5527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67520" y="457668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08960" y="5719680"/>
            <a:ext cx="69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4572000"/>
            <a:ext cx="907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Ca(OH)</a:t>
            </a:r>
            <a:r>
              <a:rPr b="0" lang="es-ES_tradnl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61,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44480" y="5562720"/>
            <a:ext cx="15537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,6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,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,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10880" y="1971720"/>
            <a:ext cx="53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56240" y="1971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06400" y="45396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6440" y="1981080"/>
            <a:ext cx="90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O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6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7640" y="2438280"/>
            <a:ext cx="137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O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41,1 (+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61040" y="4202280"/>
            <a:ext cx="85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47320" y="4419720"/>
            <a:ext cx="1290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72280" y="457200"/>
            <a:ext cx="32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orre de Carbonatación (R-I,R-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5-25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6360" y="4219560"/>
            <a:ext cx="157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scompon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amoní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R-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46920" y="4113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33600" y="46483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rno (R-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19360" y="314784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agador (R-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0720" y="136224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rno (R-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30360" y="42022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5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838080"/>
            <a:ext cx="1447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cc99"/>
                </a:solidFill>
                <a:latin typeface="Times New Roman"/>
              </a:rPr>
              <a:t>NaCl 108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1" i="1" lang="es-ES_tradnl" sz="1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es-ES_tradnl" sz="1600" spc="-1" strike="noStrike">
                <a:solidFill>
                  <a:srgbClr val="00cc99"/>
                </a:solidFill>
                <a:latin typeface="Times New Roman"/>
              </a:rPr>
              <a:t>O 9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73356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08660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733560" y="2819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9000" y="3124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6960" y="5486400"/>
            <a:ext cx="155376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0,6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0,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0,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0,6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3526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06040" y="4114800"/>
            <a:ext cx="155376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01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5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08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5160" y="3276720"/>
            <a:ext cx="15537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01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24640" y="1066680"/>
            <a:ext cx="1656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3,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3,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3,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3,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3915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85760" y="3490920"/>
            <a:ext cx="67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8520" y="2133720"/>
            <a:ext cx="67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905120"/>
            <a:ext cx="787680" cy="798480"/>
          </a:xfrm>
          <a:custGeom>
            <a:avLst/>
            <a:gdLst/>
            <a:ahLst/>
            <a:rect l="l" t="t" r="r" b="b"/>
            <a:pathLst>
              <a:path w="496" h="503">
                <a:moveTo>
                  <a:pt x="352" y="79"/>
                </a:moveTo>
                <a:cubicBezTo>
                  <a:pt x="101" y="85"/>
                  <a:pt x="44" y="0"/>
                  <a:pt x="0" y="175"/>
                </a:cubicBezTo>
                <a:cubicBezTo>
                  <a:pt x="3" y="239"/>
                  <a:pt x="0" y="303"/>
                  <a:pt x="8" y="367"/>
                </a:cubicBezTo>
                <a:cubicBezTo>
                  <a:pt x="21" y="467"/>
                  <a:pt x="109" y="493"/>
                  <a:pt x="192" y="503"/>
                </a:cubicBezTo>
                <a:cubicBezTo>
                  <a:pt x="282" y="497"/>
                  <a:pt x="322" y="491"/>
                  <a:pt x="400" y="471"/>
                </a:cubicBezTo>
                <a:cubicBezTo>
                  <a:pt x="441" y="430"/>
                  <a:pt x="478" y="398"/>
                  <a:pt x="496" y="343"/>
                </a:cubicBezTo>
                <a:cubicBezTo>
                  <a:pt x="491" y="308"/>
                  <a:pt x="490" y="255"/>
                  <a:pt x="472" y="223"/>
                </a:cubicBezTo>
                <a:cubicBezTo>
                  <a:pt x="429" y="148"/>
                  <a:pt x="466" y="242"/>
                  <a:pt x="400" y="143"/>
                </a:cubicBezTo>
                <a:cubicBezTo>
                  <a:pt x="395" y="135"/>
                  <a:pt x="392" y="125"/>
                  <a:pt x="384" y="119"/>
                </a:cubicBezTo>
                <a:cubicBezTo>
                  <a:pt x="377" y="114"/>
                  <a:pt x="365" y="118"/>
                  <a:pt x="360" y="111"/>
                </a:cubicBezTo>
                <a:cubicBezTo>
                  <a:pt x="353" y="102"/>
                  <a:pt x="355" y="90"/>
                  <a:pt x="352" y="7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23240" y="3503520"/>
            <a:ext cx="1017360" cy="666720"/>
          </a:xfrm>
          <a:custGeom>
            <a:avLst/>
            <a:gdLst/>
            <a:ahLst/>
            <a:rect l="l" t="t" r="r" b="b"/>
            <a:pathLst>
              <a:path w="641" h="420">
                <a:moveTo>
                  <a:pt x="624" y="41"/>
                </a:moveTo>
                <a:cubicBezTo>
                  <a:pt x="502" y="0"/>
                  <a:pt x="193" y="32"/>
                  <a:pt x="128" y="33"/>
                </a:cubicBezTo>
                <a:cubicBezTo>
                  <a:pt x="90" y="36"/>
                  <a:pt x="29" y="20"/>
                  <a:pt x="16" y="73"/>
                </a:cubicBezTo>
                <a:cubicBezTo>
                  <a:pt x="6" y="115"/>
                  <a:pt x="0" y="201"/>
                  <a:pt x="0" y="201"/>
                </a:cubicBezTo>
                <a:cubicBezTo>
                  <a:pt x="3" y="233"/>
                  <a:pt x="2" y="265"/>
                  <a:pt x="8" y="297"/>
                </a:cubicBezTo>
                <a:cubicBezTo>
                  <a:pt x="24" y="380"/>
                  <a:pt x="193" y="393"/>
                  <a:pt x="256" y="401"/>
                </a:cubicBezTo>
                <a:cubicBezTo>
                  <a:pt x="365" y="374"/>
                  <a:pt x="170" y="420"/>
                  <a:pt x="464" y="385"/>
                </a:cubicBezTo>
                <a:cubicBezTo>
                  <a:pt x="474" y="384"/>
                  <a:pt x="508" y="351"/>
                  <a:pt x="512" y="345"/>
                </a:cubicBezTo>
                <a:cubicBezTo>
                  <a:pt x="550" y="282"/>
                  <a:pt x="576" y="217"/>
                  <a:pt x="608" y="153"/>
                </a:cubicBezTo>
                <a:cubicBezTo>
                  <a:pt x="641" y="86"/>
                  <a:pt x="640" y="127"/>
                  <a:pt x="640" y="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81640" y="2462040"/>
            <a:ext cx="525600" cy="420840"/>
          </a:xfrm>
          <a:custGeom>
            <a:avLst/>
            <a:gdLst/>
            <a:ahLst/>
            <a:rect l="l" t="t" r="r" b="b"/>
            <a:pathLst>
              <a:path w="331" h="265">
                <a:moveTo>
                  <a:pt x="307" y="25"/>
                </a:moveTo>
                <a:cubicBezTo>
                  <a:pt x="233" y="0"/>
                  <a:pt x="183" y="12"/>
                  <a:pt x="99" y="17"/>
                </a:cubicBezTo>
                <a:cubicBezTo>
                  <a:pt x="73" y="34"/>
                  <a:pt x="61" y="56"/>
                  <a:pt x="35" y="73"/>
                </a:cubicBezTo>
                <a:cubicBezTo>
                  <a:pt x="24" y="94"/>
                  <a:pt x="0" y="113"/>
                  <a:pt x="3" y="137"/>
                </a:cubicBezTo>
                <a:cubicBezTo>
                  <a:pt x="6" y="158"/>
                  <a:pt x="4" y="181"/>
                  <a:pt x="11" y="201"/>
                </a:cubicBezTo>
                <a:cubicBezTo>
                  <a:pt x="23" y="234"/>
                  <a:pt x="86" y="255"/>
                  <a:pt x="115" y="265"/>
                </a:cubicBezTo>
                <a:cubicBezTo>
                  <a:pt x="155" y="262"/>
                  <a:pt x="195" y="261"/>
                  <a:pt x="235" y="257"/>
                </a:cubicBezTo>
                <a:cubicBezTo>
                  <a:pt x="264" y="254"/>
                  <a:pt x="265" y="242"/>
                  <a:pt x="283" y="217"/>
                </a:cubicBezTo>
                <a:cubicBezTo>
                  <a:pt x="331" y="150"/>
                  <a:pt x="313" y="110"/>
                  <a:pt x="307" y="2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84960" y="4721400"/>
            <a:ext cx="1471320" cy="358560"/>
          </a:xfrm>
          <a:custGeom>
            <a:avLst/>
            <a:gdLst/>
            <a:ahLst/>
            <a:rect l="l" t="t" r="r" b="b"/>
            <a:pathLst>
              <a:path w="927" h="226">
                <a:moveTo>
                  <a:pt x="889" y="74"/>
                </a:moveTo>
                <a:cubicBezTo>
                  <a:pt x="857" y="58"/>
                  <a:pt x="814" y="53"/>
                  <a:pt x="785" y="34"/>
                </a:cubicBezTo>
                <a:cubicBezTo>
                  <a:pt x="777" y="29"/>
                  <a:pt x="770" y="20"/>
                  <a:pt x="761" y="18"/>
                </a:cubicBezTo>
                <a:cubicBezTo>
                  <a:pt x="722" y="8"/>
                  <a:pt x="681" y="9"/>
                  <a:pt x="641" y="2"/>
                </a:cubicBezTo>
                <a:cubicBezTo>
                  <a:pt x="444" y="5"/>
                  <a:pt x="246" y="0"/>
                  <a:pt x="49" y="10"/>
                </a:cubicBezTo>
                <a:cubicBezTo>
                  <a:pt x="0" y="13"/>
                  <a:pt x="12" y="86"/>
                  <a:pt x="25" y="106"/>
                </a:cubicBezTo>
                <a:cubicBezTo>
                  <a:pt x="37" y="125"/>
                  <a:pt x="108" y="136"/>
                  <a:pt x="129" y="138"/>
                </a:cubicBezTo>
                <a:cubicBezTo>
                  <a:pt x="259" y="149"/>
                  <a:pt x="472" y="151"/>
                  <a:pt x="577" y="154"/>
                </a:cubicBezTo>
                <a:cubicBezTo>
                  <a:pt x="652" y="152"/>
                  <a:pt x="927" y="226"/>
                  <a:pt x="889" y="7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57200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52880" y="4191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419112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05520" y="4191120"/>
            <a:ext cx="10666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05360" y="3276720"/>
            <a:ext cx="103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1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505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77120" y="4267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4267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1295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90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1600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22240" y="1143000"/>
            <a:ext cx="778824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 NaC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 + NaH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I) *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1,9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101,9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1,9      101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NaH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+ 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82,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1,1  82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 + Ca(OH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+ 2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1,9         61,1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101,9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+ 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IV) *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3,9  103,99   103,99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3,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O + 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1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O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1,14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1,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13334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1790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224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270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31622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95480" y="36194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4076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895480" y="2743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19520" y="30492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CIÓN. (industria de los álca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447920"/>
            <a:ext cx="853416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o cristales de sosa (hidratados) 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Jabones, blanqueo, papelería, industria textil, industria vidriera (50%), industria química g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ción de sosa caústica reaccionando con lechada de 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 Ca(OH)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2NaOH + Ca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95) 700.000 Tn/año. Solvay-Torrelavega 1904 (Santan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Leblanc y Solv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o Leblanc (1736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derado el primer proceso químico industrial de la histo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ía 22 Tn/día en 18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s primas: H2SO4, NaCl, C y CaCO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NaCl+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HCl+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4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CO+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+Ca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S+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NaCl+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4C +Ca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HCl+ 4CO+ CaS+N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019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955800"/>
            <a:ext cx="444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sa (carbonato sódico):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819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75760" y="457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O SOLV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2438280"/>
            <a:ext cx="8229600" cy="4146840"/>
            <a:chOff x="380880" y="2438280"/>
            <a:chExt cx="8229600" cy="4146840"/>
          </a:xfrm>
        </p:grpSpPr>
        <p:sp>
          <p:nvSpPr>
            <p:cNvPr id="60" name=""/>
            <p:cNvSpPr/>
            <p:nvPr/>
          </p:nvSpPr>
          <p:spPr>
            <a:xfrm>
              <a:off x="822240" y="2438280"/>
              <a:ext cx="7788240" cy="41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+ NaC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l + Na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) *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Na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l + Ca(OH)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l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2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2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V) *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O +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(OH)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2NaC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CaCl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Na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628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3085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3543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4000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5480" y="4457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4914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95480" y="5371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5143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98200" y="1641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2438280"/>
            <a:ext cx="8229600" cy="4146840"/>
            <a:chOff x="380880" y="2438280"/>
            <a:chExt cx="8229600" cy="4146840"/>
          </a:xfrm>
        </p:grpSpPr>
        <p:sp>
          <p:nvSpPr>
            <p:cNvPr id="72" name=""/>
            <p:cNvSpPr/>
            <p:nvPr/>
          </p:nvSpPr>
          <p:spPr>
            <a:xfrm>
              <a:off x="822240" y="2438280"/>
              <a:ext cx="7788240" cy="41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+ NaC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l + Na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) *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Na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2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l + Ca(OH)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l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2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2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IV) *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O +  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O +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(OH)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a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2NaC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CaCl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 Na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VI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480" y="2629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3086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95480" y="3543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000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95480" y="4457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5480" y="4915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5480" y="5372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5143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2895480" y="2743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523880" y="2438280"/>
            <a:ext cx="381240" cy="1447560"/>
            <a:chOff x="1523880" y="2438280"/>
            <a:chExt cx="381240" cy="1447560"/>
          </a:xfrm>
        </p:grpSpPr>
        <p:sp>
          <p:nvSpPr>
            <p:cNvPr id="83" name=""/>
            <p:cNvSpPr/>
            <p:nvPr/>
          </p:nvSpPr>
          <p:spPr>
            <a:xfrm>
              <a:off x="1523880" y="3733560"/>
              <a:ext cx="3812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3880" y="2438280"/>
              <a:ext cx="3812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23880" y="2514240"/>
              <a:ext cx="38124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971800" y="2438280"/>
            <a:ext cx="380880" cy="1447560"/>
            <a:chOff x="2971800" y="2438280"/>
            <a:chExt cx="380880" cy="1447560"/>
          </a:xfrm>
        </p:grpSpPr>
        <p:sp>
          <p:nvSpPr>
            <p:cNvPr id="87" name=""/>
            <p:cNvSpPr/>
            <p:nvPr/>
          </p:nvSpPr>
          <p:spPr>
            <a:xfrm>
              <a:off x="2971800" y="373356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243828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1800" y="2514240"/>
              <a:ext cx="3808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514600"/>
            <a:ext cx="380880" cy="1447560"/>
            <a:chOff x="4419720" y="2514600"/>
            <a:chExt cx="380880" cy="1447560"/>
          </a:xfrm>
        </p:grpSpPr>
        <p:sp>
          <p:nvSpPr>
            <p:cNvPr id="91" name=""/>
            <p:cNvSpPr/>
            <p:nvPr/>
          </p:nvSpPr>
          <p:spPr>
            <a:xfrm>
              <a:off x="4419720" y="380988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251460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2590560"/>
              <a:ext cx="3808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905120" y="4800600"/>
            <a:ext cx="380880" cy="1447560"/>
            <a:chOff x="1905120" y="4800600"/>
            <a:chExt cx="380880" cy="1447560"/>
          </a:xfrm>
        </p:grpSpPr>
        <p:sp>
          <p:nvSpPr>
            <p:cNvPr id="95" name=""/>
            <p:cNvSpPr/>
            <p:nvPr/>
          </p:nvSpPr>
          <p:spPr>
            <a:xfrm>
              <a:off x="1905120" y="609588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5120" y="4800600"/>
              <a:ext cx="3808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5120" y="4876560"/>
              <a:ext cx="3808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1640" y="4343400"/>
            <a:ext cx="914760" cy="672840"/>
            <a:chOff x="4571640" y="4343400"/>
            <a:chExt cx="914760" cy="672840"/>
          </a:xfrm>
        </p:grpSpPr>
        <p:sp>
          <p:nvSpPr>
            <p:cNvPr id="99" name=""/>
            <p:cNvSpPr/>
            <p:nvPr/>
          </p:nvSpPr>
          <p:spPr>
            <a:xfrm>
              <a:off x="4800600" y="4343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57164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25744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4572000"/>
              <a:ext cx="914400" cy="444240"/>
            </a:xfrm>
            <a:custGeom>
              <a:avLst/>
              <a:gdLst/>
              <a:ahLst/>
              <a:rect l="l" t="t" r="r" b="b"/>
              <a:pathLst>
                <a:path w="576" h="280">
                  <a:moveTo>
                    <a:pt x="0" y="0"/>
                  </a:moveTo>
                  <a:cubicBezTo>
                    <a:pt x="36" y="100"/>
                    <a:pt x="72" y="200"/>
                    <a:pt x="144" y="240"/>
                  </a:cubicBezTo>
                  <a:cubicBezTo>
                    <a:pt x="216" y="280"/>
                    <a:pt x="360" y="280"/>
                    <a:pt x="432" y="240"/>
                  </a:cubicBezTo>
                  <a:cubicBezTo>
                    <a:pt x="504" y="200"/>
                    <a:pt x="540" y="100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172200" y="4876920"/>
            <a:ext cx="990720" cy="533160"/>
            <a:chOff x="6172200" y="4876920"/>
            <a:chExt cx="990720" cy="533160"/>
          </a:xfrm>
        </p:grpSpPr>
        <p:sp>
          <p:nvSpPr>
            <p:cNvPr id="104" name=""/>
            <p:cNvSpPr/>
            <p:nvPr/>
          </p:nvSpPr>
          <p:spPr>
            <a:xfrm>
              <a:off x="617220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5410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4876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5720" y="48769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5720" y="5028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028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9144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6232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80988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856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86000" y="4952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080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002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228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812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352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1240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36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047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740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962520"/>
            <a:ext cx="152280" cy="2286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0" y="192"/>
                </a:moveTo>
                <a:cubicBezTo>
                  <a:pt x="40" y="180"/>
                  <a:pt x="80" y="168"/>
                  <a:pt x="96" y="144"/>
                </a:cubicBezTo>
                <a:cubicBezTo>
                  <a:pt x="112" y="120"/>
                  <a:pt x="112" y="72"/>
                  <a:pt x="96" y="48"/>
                </a:cubicBezTo>
                <a:cubicBezTo>
                  <a:pt x="80" y="24"/>
                  <a:pt x="16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05740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6477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248520" y="25142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69920" y="2515680"/>
            <a:ext cx="165960" cy="60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672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8002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048120" y="5791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8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600" y="304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1160" y="205740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mu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0160" y="6310440"/>
            <a:ext cx="69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93560" y="4952880"/>
            <a:ext cx="89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52960" y="4633920"/>
            <a:ext cx="72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2520" y="3110040"/>
            <a:ext cx="53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15000" y="31100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92160" y="18144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2480" y="3110040"/>
            <a:ext cx="73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8320" y="3505320"/>
            <a:ext cx="95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59680" y="5014800"/>
            <a:ext cx="85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7040" y="417672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3080" y="4253040"/>
            <a:ext cx="99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7200" y="1752480"/>
            <a:ext cx="33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orres de Carbonatación (R-I,R-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-4 ate 15-25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5029200"/>
            <a:ext cx="157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scompon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amoní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R-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35720" y="4938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7000" y="539604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rno (R-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3320" y="411480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agador (R-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7040" y="25909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rno (R-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84760" y="0"/>
            <a:ext cx="36734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+ NaCl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l + NaH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I)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NaH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 +  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l + Ca(OH)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 + 2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II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 +  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IV) *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O +  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O + H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V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+ 2NaCl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+ Na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(VI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685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380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52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914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447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523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33760" y="501480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5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819520"/>
            <a:ext cx="128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lumn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mo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85760" y="457200"/>
            <a:ext cx="45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SICOQUÍMIC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611360" y="1066680"/>
            <a:ext cx="5319360" cy="3876120"/>
            <a:chOff x="1611360" y="1066680"/>
            <a:chExt cx="5319360" cy="3876120"/>
          </a:xfrm>
        </p:grpSpPr>
        <p:sp>
          <p:nvSpPr>
            <p:cNvPr id="196" name=""/>
            <p:cNvSpPr/>
            <p:nvPr/>
          </p:nvSpPr>
          <p:spPr>
            <a:xfrm>
              <a:off x="6005520" y="12049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a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26040" y="4572000"/>
              <a:ext cx="90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H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11360" y="4572000"/>
              <a:ext cx="102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7920" y="1066680"/>
              <a:ext cx="72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95560" y="4572000"/>
              <a:ext cx="708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04520" y="2743200"/>
              <a:ext cx="48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s-ES_tradnl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43520" y="1066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4400" y="266688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514240" y="1447560"/>
              <a:ext cx="3504960" cy="3124080"/>
              <a:chOff x="2514240" y="1447560"/>
              <a:chExt cx="3504960" cy="3124080"/>
            </a:xfrm>
          </p:grpSpPr>
          <p:sp>
            <p:nvSpPr>
              <p:cNvPr id="205" name=""/>
              <p:cNvSpPr/>
              <p:nvPr/>
            </p:nvSpPr>
            <p:spPr>
              <a:xfrm>
                <a:off x="2514600" y="1447560"/>
                <a:ext cx="350460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14600" y="175968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14600" y="207216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238464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269712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14600" y="269712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14600" y="300960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332208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14600" y="363456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14600" y="4259160"/>
                <a:ext cx="3504600" cy="31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112716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147744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400000">
                <a:off x="182808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400000">
                <a:off x="217836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400000">
                <a:off x="252900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400000">
                <a:off x="287928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400000">
                <a:off x="322992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358020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400000">
                <a:off x="393084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4281120" y="2834280"/>
                <a:ext cx="3124080" cy="35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666880" y="1600200"/>
              <a:ext cx="3124080" cy="28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64760" y="5410080"/>
            <a:ext cx="16941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 moles N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 moles NaHC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0 moles N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360" y="4952880"/>
            <a:ext cx="6705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+4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+4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/80=0.125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0/80=0.875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/80=0.625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/80=0.3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5334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105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5105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5105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2952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564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0" y="28051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560" y="2819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9920" y="4038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9920" y="1600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9000" y="9763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3280" y="23623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6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582720" y="228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ro-s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800" y="914400"/>
            <a:ext cx="4196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ón teór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Cl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/2Cl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 1/2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+ Na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8380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ro se descarga en án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ógeno en el cá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752480"/>
            <a:ext cx="748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NaOH + 1/2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impide que se descarge Na en el cáto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4080" y="2362320"/>
            <a:ext cx="432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tencial teórico para la reacción Eº=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º/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º(NaOH) = -100200 Kcal/K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Gº(NaCl)=93900 Kcal/K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Gº(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)=56690 Kcal/K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º= 50390 Kcal/Kmol = 210630 KJ/K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04812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º=210630/1*96487=2.19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2000" y="4419720"/>
            <a:ext cx="562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= 0.68 por sobretensiones en electrodos y caída oh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240" y="5029200"/>
            <a:ext cx="21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5 po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4240" y="4800600"/>
            <a:ext cx="5952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) Cl gas al cátodo y pasa a C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) Cl se disuelve en agua y forma ác. hipocloroso y clorhíd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) O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l ánodo y se descargan produciendo 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360" y="5791320"/>
            <a:ext cx="120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46280" y="574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ldas de diafr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9051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0"/>
                </a:moveTo>
                <a:lnTo>
                  <a:pt x="0" y="672"/>
                </a:lnTo>
                <a:lnTo>
                  <a:pt x="96" y="720"/>
                </a:lnTo>
                <a:lnTo>
                  <a:pt x="1056" y="720"/>
                </a:lnTo>
                <a:lnTo>
                  <a:pt x="1104" y="672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57400" y="17521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133720"/>
            <a:ext cx="152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133720"/>
            <a:ext cx="152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2438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2438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2362320"/>
            <a:ext cx="15228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66960" y="2514600"/>
            <a:ext cx="266760" cy="30492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24" y="0"/>
                </a:moveTo>
                <a:cubicBezTo>
                  <a:pt x="12" y="32"/>
                  <a:pt x="0" y="64"/>
                  <a:pt x="24" y="96"/>
                </a:cubicBezTo>
                <a:cubicBezTo>
                  <a:pt x="48" y="128"/>
                  <a:pt x="144" y="176"/>
                  <a:pt x="16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49360" y="236232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8" y="0"/>
                </a:moveTo>
                <a:cubicBezTo>
                  <a:pt x="4" y="36"/>
                  <a:pt x="0" y="72"/>
                  <a:pt x="8" y="96"/>
                </a:cubicBezTo>
                <a:cubicBezTo>
                  <a:pt x="16" y="120"/>
                  <a:pt x="36" y="132"/>
                  <a:pt x="5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25680" y="236232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8" y="0"/>
                </a:moveTo>
                <a:cubicBezTo>
                  <a:pt x="4" y="36"/>
                  <a:pt x="0" y="72"/>
                  <a:pt x="8" y="96"/>
                </a:cubicBezTo>
                <a:cubicBezTo>
                  <a:pt x="16" y="120"/>
                  <a:pt x="36" y="132"/>
                  <a:pt x="5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362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cubicBezTo>
                  <a:pt x="16" y="56"/>
                  <a:pt x="32" y="112"/>
                  <a:pt x="48" y="144"/>
                </a:cubicBezTo>
                <a:cubicBezTo>
                  <a:pt x="64" y="176"/>
                  <a:pt x="80" y="184"/>
                  <a:pt x="9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2362320"/>
            <a:ext cx="266760" cy="30456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144" y="0"/>
                </a:moveTo>
                <a:cubicBezTo>
                  <a:pt x="156" y="56"/>
                  <a:pt x="168" y="112"/>
                  <a:pt x="144" y="144"/>
                </a:cubicBezTo>
                <a:cubicBezTo>
                  <a:pt x="120" y="176"/>
                  <a:pt x="60" y="184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479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666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0760" y="288144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OH d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06720" y="27543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Ánodo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7440" y="274320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todo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87240" y="214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1676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45520" y="2144880"/>
            <a:ext cx="4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080" y="17636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mu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3716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5800" y="1371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róg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12193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afrag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mia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4000" y="1752480"/>
            <a:ext cx="56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Cl gas al cátodo y pasa a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Se trabaja a Tª 70-80ºC para bajar solubilidad del c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Se genera sosa diluida (15%p) Evitar la descarga del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81280" y="182844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175248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2819520"/>
            <a:ext cx="115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3-4 efec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3276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440" y="29718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OH co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0560" y="3795840"/>
            <a:ext cx="62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4419720"/>
            <a:ext cx="1981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3560" y="4572000"/>
            <a:ext cx="18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¡¡Muy endotérmico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105160" y="342900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30481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almu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s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6160" y="5335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ldas de 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0760" y="259092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átodo: Lámina de mercurio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06160" y="976320"/>
            <a:ext cx="3682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Cl + Hg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/2C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Na-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-Hg + 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/2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NaOH + 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9051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0"/>
                </a:moveTo>
                <a:lnTo>
                  <a:pt x="0" y="672"/>
                </a:lnTo>
                <a:lnTo>
                  <a:pt x="96" y="720"/>
                </a:lnTo>
                <a:lnTo>
                  <a:pt x="1056" y="720"/>
                </a:lnTo>
                <a:lnTo>
                  <a:pt x="1104" y="672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2819520"/>
            <a:ext cx="17524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981080"/>
            <a:ext cx="38124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1981080"/>
            <a:ext cx="3808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1981080"/>
            <a:ext cx="3808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5360" y="303372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malgama Na-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0280" y="27288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átodo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6680" y="181440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nodo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5320" y="23479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mu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524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6120" y="1585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43360" y="23479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3716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46400" y="29718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malgama a descomponer (0,5%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26160" y="3429000"/>
            <a:ext cx="26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g regenerado (min. pérdi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219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1676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9000" y="3567240"/>
            <a:ext cx="47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das de gran superficie 1-2,5m ancho x 10-25m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41000" y="1981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º=-3,13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9040" y="1981080"/>
            <a:ext cx="377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or consumo energético pero no neces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4240" y="501480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GAR FIG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8720" y="10666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 de gran pu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1981080"/>
            <a:ext cx="4876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8640" y="4572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lda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19051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0"/>
                </a:moveTo>
                <a:lnTo>
                  <a:pt x="0" y="672"/>
                </a:lnTo>
                <a:lnTo>
                  <a:pt x="96" y="720"/>
                </a:lnTo>
                <a:lnTo>
                  <a:pt x="1056" y="720"/>
                </a:lnTo>
                <a:lnTo>
                  <a:pt x="1104" y="672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057400" y="17521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133720"/>
            <a:ext cx="152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2133720"/>
            <a:ext cx="152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2438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2438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2362320"/>
            <a:ext cx="15228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132" y="32"/>
                  <a:pt x="120" y="64"/>
                  <a:pt x="96" y="96"/>
                </a:cubicBezTo>
                <a:cubicBezTo>
                  <a:pt x="72" y="128"/>
                  <a:pt x="36" y="160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49360" y="236232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8" y="0"/>
                </a:moveTo>
                <a:cubicBezTo>
                  <a:pt x="4" y="36"/>
                  <a:pt x="0" y="72"/>
                  <a:pt x="8" y="96"/>
                </a:cubicBezTo>
                <a:cubicBezTo>
                  <a:pt x="16" y="120"/>
                  <a:pt x="36" y="132"/>
                  <a:pt x="5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25680" y="2362320"/>
            <a:ext cx="88920" cy="2286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8" y="0"/>
                </a:moveTo>
                <a:cubicBezTo>
                  <a:pt x="4" y="36"/>
                  <a:pt x="0" y="72"/>
                  <a:pt x="8" y="96"/>
                </a:cubicBezTo>
                <a:cubicBezTo>
                  <a:pt x="16" y="120"/>
                  <a:pt x="36" y="132"/>
                  <a:pt x="5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362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cubicBezTo>
                  <a:pt x="16" y="56"/>
                  <a:pt x="32" y="112"/>
                  <a:pt x="48" y="144"/>
                </a:cubicBezTo>
                <a:cubicBezTo>
                  <a:pt x="64" y="176"/>
                  <a:pt x="80" y="184"/>
                  <a:pt x="9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2362320"/>
            <a:ext cx="266760" cy="30456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144" y="0"/>
                </a:moveTo>
                <a:cubicBezTo>
                  <a:pt x="156" y="56"/>
                  <a:pt x="168" y="112"/>
                  <a:pt x="144" y="144"/>
                </a:cubicBezTo>
                <a:cubicBezTo>
                  <a:pt x="120" y="176"/>
                  <a:pt x="60" y="184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4479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66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06720" y="27543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Ánodo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7440" y="274320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átodo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240" y="2144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5680" y="1676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45520" y="2144880"/>
            <a:ext cx="4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080" y="17636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mu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13716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121932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0240" y="280512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sa conc.25-3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971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6760" y="1905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85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8520" y="295740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muera res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34040" y="99072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ólo deja pasar cat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91440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3520" y="1371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róg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33360" y="455760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GAR FIG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11:36:53Z</dcterms:created>
  <dc:creator>Manuel Rodriguez</dc:creator>
  <dc:description/>
  <dc:language>en-US</dc:language>
  <cp:lastModifiedBy>Manuel Rodriguez</cp:lastModifiedBy>
  <dcterms:modified xsi:type="dcterms:W3CDTF">2000-05-18T14:54:59Z</dcterms:modified>
  <cp:revision>84</cp:revision>
  <dc:subject/>
  <dc:title>Sin título de diapositiva</dc:title>
</cp:coreProperties>
</file>