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954-67B6-4D96-8EFE-8D560BCA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A3FD-CFED-40B1-AB52-CFB40946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3768-781F-40DB-8B49-9E08BCF2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F4FE-46DF-4391-BFFD-5B0F4842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DD19-CF6A-4B19-926D-05AF10F2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7096-700E-4E0B-B302-86413197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F53C-3D0A-4495-BC45-92DF2E5F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CBE4-B5CE-45DC-BE94-8D777237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52A7-1400-4C93-B880-46F16003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92E-4E07-4B3C-AB29-8031F476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F89E-ADDC-47CD-95E2-4F5E5DE8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B70F-1FE6-498B-8825-8C40EDF7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Benguiat Bk BT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18112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Tecnología Química Inorgánica.  Manuel Rodrígu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-3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5989-EE56-421B-954F-442130C9B628}" type="slidenum">
              <a:rPr b="1" lang="es-E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logosultimo2" descr=""/>
          <p:cNvPicPr/>
          <p:nvPr/>
        </p:nvPicPr>
        <p:blipFill>
          <a:blip r:embed="rId9"/>
          <a:stretch/>
        </p:blipFill>
        <p:spPr>
          <a:xfrm>
            <a:off x="0" y="6461280"/>
            <a:ext cx="457200" cy="396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8686800" y="0"/>
            <a:ext cx="457200" cy="45720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067680" y="2362320"/>
            <a:ext cx="76320" cy="29718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2362320"/>
            <a:ext cx="76320" cy="29718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29680" y="3021120"/>
            <a:ext cx="624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onsideraciones generales: características, usos,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Procesos de fabricación: Convencional y Optimiz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86000" y="1447920"/>
            <a:ext cx="4114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a fabricación de la urea</a:t>
            </a:r>
            <a:endParaRPr b="0" i="1" lang="en-US" sz="2400" spc="1" strike="noStrike">
              <a:ln w="0">
                <a:noFill/>
              </a:ln>
              <a:solidFill>
                <a:srgbClr val="99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847800"/>
            <a:ext cx="7162560" cy="4757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84360" y="457200"/>
            <a:ext cx="32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ceso CONVE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3960" y="304920"/>
            <a:ext cx="2047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IPPING C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456160" cy="5910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555240" y="83808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I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ÉR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223760" y="0"/>
            <a:ext cx="19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cesos de fabr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76320" y="-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81320" y="6324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76320" y="-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3960" y="304920"/>
            <a:ext cx="24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ceso Stamicarb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059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4343400" cy="29098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133720" y="3276720"/>
            <a:ext cx="4419360" cy="2919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633000" y="1738440"/>
            <a:ext cx="14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vantGarde Md BT"/>
              </a:rPr>
              <a:t>Conve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50280" y="4938840"/>
            <a:ext cx="155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vantGarde Md BT"/>
              </a:rPr>
              <a:t>Stamicarb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vantGarde Md BT"/>
              </a:rPr>
              <a:t>Urea 2000P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76920" y="152280"/>
            <a:ext cx="25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ceso Snamprog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2296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6120" y="304920"/>
            <a:ext cx="16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ceso Toy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09480" y="689040"/>
            <a:ext cx="800100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hrupflw" descr="Heat Recycle Urea Process"/>
          <p:cNvPicPr/>
          <p:nvPr/>
        </p:nvPicPr>
        <p:blipFill>
          <a:blip r:embed="rId1"/>
          <a:stretch/>
        </p:blipFill>
        <p:spPr>
          <a:xfrm>
            <a:off x="533520" y="457200"/>
            <a:ext cx="7391160" cy="5543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44960" y="304920"/>
            <a:ext cx="675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eat Recycle Urea Process (HRUP)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onsanto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nviro-C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rill" descr="Prilling Process Flow Diagram"/>
          <p:cNvPicPr/>
          <p:nvPr/>
        </p:nvPicPr>
        <p:blipFill>
          <a:blip r:embed="rId1"/>
          <a:stretch/>
        </p:blipFill>
        <p:spPr>
          <a:xfrm>
            <a:off x="304920" y="762120"/>
            <a:ext cx="5715000" cy="5190840"/>
          </a:xfrm>
          <a:prstGeom prst="rect">
            <a:avLst/>
          </a:prstGeom>
          <a:ln w="0">
            <a:noFill/>
          </a:ln>
        </p:spPr>
      </p:pic>
      <p:pic>
        <p:nvPicPr>
          <p:cNvPr id="186" name="cross_flow" descr="Cross-Flow Prilling System"/>
          <p:cNvPicPr/>
          <p:nvPr/>
        </p:nvPicPr>
        <p:blipFill>
          <a:blip r:embed="rId2"/>
          <a:stretch/>
        </p:blipFill>
        <p:spPr>
          <a:xfrm>
            <a:off x="6248520" y="1676520"/>
            <a:ext cx="2479680" cy="3154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55040" y="30492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orre de Prilling de u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895320"/>
            <a:ext cx="7253280" cy="5457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53960" y="304920"/>
            <a:ext cx="27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ceso de gran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553000" cy="4834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79800" y="22860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ranu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1720" y="533520"/>
            <a:ext cx="56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Consideraciones generales sobre la u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3120" y="2209680"/>
            <a:ext cx="754920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rea, fórmula química:  (N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CO-N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puesto sólido con alto contenido en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(46%), derivado del amonía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mpleo como abono simple o como mat. prima para fertilizantes complej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uerte crecimiento en los últimos años (2-3%) y se esperan incrementos del 4%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86% se dedica a fertiliza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ducción mundial: 25 millones de toneladas d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1600" y="1538280"/>
            <a:ext cx="25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acterísticas y u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609480" y="228600"/>
          <a:ext cx="494352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494352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6095880" y="1066680"/>
          <a:ext cx="241956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1066680"/>
                    <a:ext cx="2419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763120" cy="4643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50360" y="304920"/>
            <a:ext cx="372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ceso basado en Snamprog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49280" y="60948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ideraciones sobre la producción de u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20280" y="0"/>
            <a:ext cx="31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sideraciones generales sobre la u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5960" y="1638360"/>
            <a:ext cx="409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tas de alta capacidad: 1000 a 2000 t/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ctualmente entre 2300-3000t/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cción a alta presió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921760" y="2476440"/>
            <a:ext cx="4134600" cy="405720"/>
            <a:chOff x="2921760" y="2476440"/>
            <a:chExt cx="4134600" cy="405720"/>
          </a:xfrm>
        </p:grpSpPr>
        <p:sp>
          <p:nvSpPr>
            <p:cNvPr id="55" name=""/>
            <p:cNvSpPr/>
            <p:nvPr/>
          </p:nvSpPr>
          <p:spPr>
            <a:xfrm>
              <a:off x="5297400" y="2476440"/>
              <a:ext cx="1758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+ -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-CO-N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21760" y="2476440"/>
              <a:ext cx="1320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N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 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359240" y="27050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258880" y="289548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bamato am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86320" y="2514600"/>
            <a:ext cx="19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H=-28000kcal/km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207680" y="2247840"/>
            <a:ext cx="1201680" cy="368280"/>
            <a:chOff x="4207680" y="2247840"/>
            <a:chExt cx="1201680" cy="368280"/>
          </a:xfrm>
        </p:grpSpPr>
        <p:sp>
          <p:nvSpPr>
            <p:cNvPr id="61" name=""/>
            <p:cNvSpPr/>
            <p:nvPr/>
          </p:nvSpPr>
          <p:spPr>
            <a:xfrm>
              <a:off x="4207680" y="2247840"/>
              <a:ext cx="120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,T&gt;145º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22280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437760" y="3848040"/>
            <a:ext cx="37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hidratación del carbamato am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547640" y="4572000"/>
            <a:ext cx="4551480" cy="405720"/>
            <a:chOff x="1547640" y="4572000"/>
            <a:chExt cx="4551480" cy="405720"/>
          </a:xfrm>
        </p:grpSpPr>
        <p:sp>
          <p:nvSpPr>
            <p:cNvPr id="65" name=""/>
            <p:cNvSpPr/>
            <p:nvPr/>
          </p:nvSpPr>
          <p:spPr>
            <a:xfrm>
              <a:off x="1547640" y="4572000"/>
              <a:ext cx="1758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+ -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-CO-N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31360" y="4572000"/>
              <a:ext cx="196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CO-N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5268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327000" y="4572000"/>
            <a:ext cx="178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H=3700kcal/km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89880" y="491508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ase líqui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2819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0120" y="2895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1447920"/>
            <a:ext cx="3352680" cy="9144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26560" y="1600200"/>
            <a:ext cx="304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vitar la descomposición del carbam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vitar la solidificación del carbam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419720" y="182880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724280" y="19807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820200" cy="3625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020280" y="0"/>
            <a:ext cx="31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sideraciones generales sobre la u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72000" y="87948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vantGarde Bk BT"/>
              </a:rPr>
              <a:t>Diagrama de Cristalización de la u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20280" y="0"/>
            <a:ext cx="31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sideraciones generales sobre la u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11430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2743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2019240"/>
            <a:ext cx="2361960" cy="723960"/>
          </a:xfrm>
          <a:custGeom>
            <a:avLst/>
            <a:gdLst/>
            <a:ahLst/>
            <a:rect l="l" t="t" r="r" b="b"/>
            <a:pathLst>
              <a:path w="1488" h="456">
                <a:moveTo>
                  <a:pt x="0" y="456"/>
                </a:moveTo>
                <a:cubicBezTo>
                  <a:pt x="308" y="300"/>
                  <a:pt x="616" y="144"/>
                  <a:pt x="864" y="72"/>
                </a:cubicBezTo>
                <a:cubicBezTo>
                  <a:pt x="1112" y="0"/>
                  <a:pt x="1384" y="32"/>
                  <a:pt x="1488" y="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1600200"/>
            <a:ext cx="2361960" cy="1143000"/>
          </a:xfrm>
          <a:custGeom>
            <a:avLst/>
            <a:gdLst/>
            <a:ahLst/>
            <a:rect l="l" t="t" r="r" b="b"/>
            <a:pathLst>
              <a:path w="1488" h="720">
                <a:moveTo>
                  <a:pt x="0" y="720"/>
                </a:moveTo>
                <a:cubicBezTo>
                  <a:pt x="128" y="512"/>
                  <a:pt x="256" y="304"/>
                  <a:pt x="384" y="192"/>
                </a:cubicBezTo>
                <a:cubicBezTo>
                  <a:pt x="512" y="80"/>
                  <a:pt x="584" y="80"/>
                  <a:pt x="768" y="48"/>
                </a:cubicBezTo>
                <a:cubicBezTo>
                  <a:pt x="952" y="16"/>
                  <a:pt x="1368" y="8"/>
                  <a:pt x="14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1130400"/>
            <a:ext cx="2286000" cy="1612800"/>
          </a:xfrm>
          <a:custGeom>
            <a:avLst/>
            <a:gdLst/>
            <a:ahLst/>
            <a:rect l="l" t="t" r="r" b="b"/>
            <a:pathLst>
              <a:path w="1440" h="1016">
                <a:moveTo>
                  <a:pt x="0" y="1016"/>
                </a:moveTo>
                <a:cubicBezTo>
                  <a:pt x="76" y="712"/>
                  <a:pt x="152" y="408"/>
                  <a:pt x="240" y="248"/>
                </a:cubicBezTo>
                <a:cubicBezTo>
                  <a:pt x="328" y="88"/>
                  <a:pt x="392" y="96"/>
                  <a:pt x="528" y="56"/>
                </a:cubicBezTo>
                <a:cubicBezTo>
                  <a:pt x="664" y="16"/>
                  <a:pt x="904" y="16"/>
                  <a:pt x="1056" y="8"/>
                </a:cubicBezTo>
                <a:cubicBezTo>
                  <a:pt x="1208" y="0"/>
                  <a:pt x="1324" y="4"/>
                  <a:pt x="1440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1219320"/>
            <a:ext cx="2286000" cy="1523880"/>
          </a:xfrm>
          <a:custGeom>
            <a:avLst/>
            <a:gdLst/>
            <a:ahLst/>
            <a:rect l="l" t="t" r="r" b="b"/>
            <a:pathLst>
              <a:path w="1440" h="960">
                <a:moveTo>
                  <a:pt x="0" y="960"/>
                </a:moveTo>
                <a:cubicBezTo>
                  <a:pt x="112" y="676"/>
                  <a:pt x="224" y="392"/>
                  <a:pt x="336" y="240"/>
                </a:cubicBezTo>
                <a:cubicBezTo>
                  <a:pt x="448" y="88"/>
                  <a:pt x="488" y="88"/>
                  <a:pt x="672" y="48"/>
                </a:cubicBezTo>
                <a:cubicBezTo>
                  <a:pt x="856" y="8"/>
                  <a:pt x="1148" y="4"/>
                  <a:pt x="14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1960" y="2095560"/>
            <a:ext cx="113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5ºC Sól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07560" y="1638360"/>
            <a:ext cx="123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ºC Líq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3440" y="118116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0º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7120" y="80028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º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96960" y="88740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2520" y="118116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2520" y="163836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2520" y="209556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0" y="255276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1640" y="285768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empo (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6880" y="1434960"/>
            <a:ext cx="21452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versión-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ción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2/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3962520"/>
            <a:ext cx="2362320" cy="1904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5410080"/>
            <a:ext cx="457200" cy="76320"/>
          </a:xfrm>
          <a:custGeom>
            <a:avLst/>
            <a:gdLst/>
            <a:ahLst/>
            <a:rect l="l" t="t" r="r" b="b"/>
            <a:pathLst>
              <a:path w="288" h="48">
                <a:moveTo>
                  <a:pt x="0" y="0"/>
                </a:moveTo>
                <a:cubicBezTo>
                  <a:pt x="120" y="20"/>
                  <a:pt x="240" y="40"/>
                  <a:pt x="288" y="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4330800"/>
            <a:ext cx="1905120" cy="1155600"/>
          </a:xfrm>
          <a:custGeom>
            <a:avLst/>
            <a:gdLst/>
            <a:ahLst/>
            <a:rect l="l" t="t" r="r" b="b"/>
            <a:pathLst>
              <a:path w="1200" h="728">
                <a:moveTo>
                  <a:pt x="0" y="728"/>
                </a:moveTo>
                <a:cubicBezTo>
                  <a:pt x="60" y="592"/>
                  <a:pt x="120" y="456"/>
                  <a:pt x="240" y="344"/>
                </a:cubicBezTo>
                <a:cubicBezTo>
                  <a:pt x="360" y="232"/>
                  <a:pt x="560" y="112"/>
                  <a:pt x="720" y="56"/>
                </a:cubicBezTo>
                <a:cubicBezTo>
                  <a:pt x="880" y="0"/>
                  <a:pt x="1040" y="4"/>
                  <a:pt x="120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21160" y="5867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49960" y="5867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3280" y="5867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5720" y="5257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9400" y="41911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727000" y="466200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dimiento de U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25120" y="6095880"/>
            <a:ext cx="1519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ación N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15640" y="3505320"/>
            <a:ext cx="913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o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63560" y="3505320"/>
            <a:ext cx="921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o 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4840" y="37339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2400" y="37339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9080" y="37339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0440" y="4343400"/>
            <a:ext cx="2623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fecto de Relación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bre conversión a u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155º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07320" y="457200"/>
            <a:ext cx="46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iagrama de bloques de la fabricación de u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78560" y="2095560"/>
            <a:ext cx="1295280" cy="914400"/>
            <a:chOff x="5578560" y="2095560"/>
            <a:chExt cx="1295280" cy="914400"/>
          </a:xfrm>
        </p:grpSpPr>
        <p:sp>
          <p:nvSpPr>
            <p:cNvPr id="115" name=""/>
            <p:cNvSpPr/>
            <p:nvPr/>
          </p:nvSpPr>
          <p:spPr>
            <a:xfrm>
              <a:off x="5578560" y="2476440"/>
              <a:ext cx="129528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ircul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035760" y="20955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531520" y="3162240"/>
            <a:ext cx="1680480" cy="533520"/>
            <a:chOff x="2531520" y="3162240"/>
            <a:chExt cx="1680480" cy="533520"/>
          </a:xfrm>
        </p:grpSpPr>
        <p:sp>
          <p:nvSpPr>
            <p:cNvPr id="118" name=""/>
            <p:cNvSpPr/>
            <p:nvPr/>
          </p:nvSpPr>
          <p:spPr>
            <a:xfrm>
              <a:off x="2606760" y="316224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31520" y="3238560"/>
              <a:ext cx="168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Descompone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300680" y="1447920"/>
            <a:ext cx="1610640" cy="824760"/>
            <a:chOff x="1300680" y="1447920"/>
            <a:chExt cx="1610640" cy="824760"/>
          </a:xfrm>
        </p:grpSpPr>
        <p:sp>
          <p:nvSpPr>
            <p:cNvPr id="121" name=""/>
            <p:cNvSpPr/>
            <p:nvPr/>
          </p:nvSpPr>
          <p:spPr>
            <a:xfrm>
              <a:off x="1996920" y="17906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96920" y="2171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00680" y="1447920"/>
              <a:ext cx="1335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 exc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70240" y="1866960"/>
              <a:ext cx="56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86600" y="2400480"/>
            <a:ext cx="2810520" cy="761760"/>
            <a:chOff x="786600" y="2400480"/>
            <a:chExt cx="2810520" cy="761760"/>
          </a:xfrm>
        </p:grpSpPr>
        <p:sp>
          <p:nvSpPr>
            <p:cNvPr id="126" name=""/>
            <p:cNvSpPr/>
            <p:nvPr/>
          </p:nvSpPr>
          <p:spPr>
            <a:xfrm>
              <a:off x="3597120" y="24004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6600" y="2705040"/>
              <a:ext cx="276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Urea+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O+carbamato+N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206960" y="1638360"/>
            <a:ext cx="3171960" cy="457200"/>
            <a:chOff x="4206960" y="1638360"/>
            <a:chExt cx="3171960" cy="457200"/>
          </a:xfrm>
        </p:grpSpPr>
        <p:sp>
          <p:nvSpPr>
            <p:cNvPr id="129" name=""/>
            <p:cNvSpPr/>
            <p:nvPr/>
          </p:nvSpPr>
          <p:spPr>
            <a:xfrm flipH="1">
              <a:off x="4206960" y="209556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25200" y="1638360"/>
              <a:ext cx="2853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+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O+(carbamato)+N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206960" y="3009960"/>
            <a:ext cx="3857760" cy="1015200"/>
            <a:chOff x="4206960" y="3009960"/>
            <a:chExt cx="3857760" cy="1015200"/>
          </a:xfrm>
        </p:grpSpPr>
        <p:sp>
          <p:nvSpPr>
            <p:cNvPr id="132" name=""/>
            <p:cNvSpPr/>
            <p:nvPr/>
          </p:nvSpPr>
          <p:spPr>
            <a:xfrm>
              <a:off x="4206960" y="35434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6111720" y="30099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11000" y="3619440"/>
              <a:ext cx="2853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+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O+(carbamato)+N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384280" y="3695760"/>
            <a:ext cx="1212840" cy="609480"/>
            <a:chOff x="2384280" y="3695760"/>
            <a:chExt cx="1212840" cy="609480"/>
          </a:xfrm>
        </p:grpSpPr>
        <p:sp>
          <p:nvSpPr>
            <p:cNvPr id="136" name=""/>
            <p:cNvSpPr/>
            <p:nvPr/>
          </p:nvSpPr>
          <p:spPr>
            <a:xfrm>
              <a:off x="3597120" y="3695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84280" y="3772080"/>
              <a:ext cx="1151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rea+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911320" y="4305240"/>
            <a:ext cx="2869560" cy="2197080"/>
            <a:chOff x="2911320" y="4305240"/>
            <a:chExt cx="2869560" cy="2197080"/>
          </a:xfrm>
        </p:grpSpPr>
        <p:sp>
          <p:nvSpPr>
            <p:cNvPr id="139" name=""/>
            <p:cNvSpPr/>
            <p:nvPr/>
          </p:nvSpPr>
          <p:spPr>
            <a:xfrm>
              <a:off x="2911320" y="4305240"/>
              <a:ext cx="129564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vapo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11320" y="5448240"/>
              <a:ext cx="129564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anul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97120" y="4838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21160" y="59817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89080" y="4915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98560" y="61340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06960" y="4686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04160" y="4457880"/>
              <a:ext cx="57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20280" y="0"/>
            <a:ext cx="31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sideraciones generales sobre la u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737800" y="1219320"/>
            <a:ext cx="1998720" cy="1181160"/>
            <a:chOff x="2737800" y="1219320"/>
            <a:chExt cx="1998720" cy="1181160"/>
          </a:xfrm>
        </p:grpSpPr>
        <p:sp>
          <p:nvSpPr>
            <p:cNvPr id="149" name=""/>
            <p:cNvSpPr/>
            <p:nvPr/>
          </p:nvSpPr>
          <p:spPr>
            <a:xfrm>
              <a:off x="2911320" y="1638360"/>
              <a:ext cx="12956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6200" y="1676520"/>
              <a:ext cx="116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a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 Sínte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37800" y="1219320"/>
              <a:ext cx="199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70-200ºC y 130-200at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223760" y="0"/>
            <a:ext cx="19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cesos de fabr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440" y="533520"/>
            <a:ext cx="35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Procesos de fabr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5760" y="1066680"/>
            <a:ext cx="32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ceso CONVE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82520" y="323856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GRAMA DE FLUJO DEL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0100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223760" y="0"/>
            <a:ext cx="19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cesos de fabr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9080" y="60948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ceso OPTIM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88480" y="1714680"/>
            <a:ext cx="77612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quisitos de un proceso energéticamente efic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) Alta eficacia en la conversión de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urea en el reac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) Eficiente descomposición del carbamato y eficiente separación de los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 la descomposición y del exceso de amonía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) Máxima recuperación y eficiente empleo del calor liberado en la rea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89560" y="3772080"/>
            <a:ext cx="80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s plantas de gran escala se basan en alguno de los siguientes procesos de stripp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08040" y="4381560"/>
            <a:ext cx="4509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ceso STAMICARBON (stripping con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ceso SNAMPROGETTI (stripping térm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ceso TOYO (stripping con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033640" y="152280"/>
            <a:ext cx="5433840" cy="6148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792760" y="762120"/>
            <a:ext cx="2047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IPPING C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8T10:54:15Z</dcterms:created>
  <dc:creator>Manuel Rodriguez</dc:creator>
  <dc:description/>
  <dc:language>en-US</dc:language>
  <cp:lastModifiedBy>Manuel Rodriguez</cp:lastModifiedBy>
  <dcterms:modified xsi:type="dcterms:W3CDTF">2003-11-28T09:20:07Z</dcterms:modified>
  <cp:revision>42</cp:revision>
  <dc:subject/>
  <dc:title>Sin título de diapositiva</dc:title>
</cp:coreProperties>
</file>